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23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8EDE7-F3F8-40E2-ADED-713FB175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0727D-962F-4B91-9FC8-8E8DE0B3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4320" cy="3716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A9150-3116-45BF-BA2B-9DC299E6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1D325-90E7-4539-B78E-C3CE13EC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2D53D-2B05-431E-8484-E4CE1AEC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4320" cy="371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AE3E5-F476-4467-9698-9E1E52F2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95BD8-F3FA-48CB-BFE1-408E89F9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22A24-D86D-4E04-8BE1-F5C7FBCA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6B0D7-963B-40C2-9EA9-48A194876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225E9-1DCB-4DC4-BF2C-AA4E1F4B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1840" y="413820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612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54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18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54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21840" y="1330200"/>
            <a:ext cx="74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612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21840" y="413820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612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54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9040" y="205092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218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54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9040" y="4138200"/>
            <a:ext cx="24030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21840" y="1330200"/>
            <a:ext cx="74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6120" y="413820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6120" y="205092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1840" y="4138200"/>
            <a:ext cx="74631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6" name="AutoShape 11"/>
          <p:cNvSpPr/>
          <p:nvPr/>
        </p:nvSpPr>
        <p:spPr>
          <a:xfrm>
            <a:off x="1222200" y="6189840"/>
            <a:ext cx="7496280" cy="304560"/>
          </a:xfrm>
          <a:prstGeom prst="octagon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Informations concernant la densification des relevés auprès des ménages et personnes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	</a:t>
            </a:r>
            <a:fld id="{A1E6481D-9788-4789-8C30-009A5B0CB5F0}" type="slidenum">
              <a:rPr b="1" lang="fr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900"/>
            </a:br>
            <a:r>
              <a:rPr b="0" lang="fr-CH" sz="900" spc="-1" strike="noStrike">
                <a:solidFill>
                  <a:srgbClr val="000000"/>
                </a:solidFill>
                <a:latin typeface="Arial"/>
              </a:rPr>
              <a:t>16 septembre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 flipH="1">
            <a:off x="122184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eader_ppt_705-2-f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partement fédéral de l’intérieur DFI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Office fédéral de la statistique O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21840" y="5289480"/>
            <a:ext cx="7396200" cy="10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3548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rco Buscher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38216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Contexte et bases </a:t>
            </a:r>
            <a:br>
              <a:rPr sz="3600"/>
            </a:b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des enquêtes thémat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ropriétés et résultats (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22200" y="2654280"/>
          <a:ext cx="7274160" cy="2016000"/>
        </p:xfrm>
        <a:graphic>
          <a:graphicData uri="http://schemas.openxmlformats.org/drawingml/2006/table">
            <a:tbl>
              <a:tblPr/>
              <a:tblGrid>
                <a:gridCol w="3451320"/>
                <a:gridCol w="3822840"/>
              </a:tblGrid>
              <a:tr h="2016000"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Relevé fondé sur les regis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t et structure de la population, des ménages, des bâtiments et des logements selon différents caract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au géographique fin (coordonnées métriqu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ropriétés et résultats (I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79640" y="2133720"/>
          <a:ext cx="7462800" cy="3743280"/>
        </p:xfrm>
        <a:graphic>
          <a:graphicData uri="http://schemas.openxmlformats.org/drawingml/2006/table">
            <a:tbl>
              <a:tblPr/>
              <a:tblGrid>
                <a:gridCol w="3492360"/>
                <a:gridCol w="3970440"/>
              </a:tblGrid>
              <a:tr h="3743280"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Enquête structur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s de base concerna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, ménages et logements / travail / mobilité / formation / langue et culture / fami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chantillon de 200‘000 personnes (2,7% de la population résidan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résultats peuvent être cumulés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 3 ou 5 ans (« pooling »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1 année: groupes de    15‘000 personnes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 sur 3 ans: 5’000 personnes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 sur 5 ans: 3’000 person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1840" y="836280"/>
            <a:ext cx="74631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ropriétés et résultats (II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76200" y="1341360"/>
          <a:ext cx="7463160" cy="4695840"/>
        </p:xfrm>
        <a:graphic>
          <a:graphicData uri="http://schemas.openxmlformats.org/drawingml/2006/table">
            <a:tbl>
              <a:tblPr/>
              <a:tblGrid>
                <a:gridCol w="3564000"/>
                <a:gridCol w="3899160"/>
              </a:tblGrid>
              <a:tr h="3912840"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Enquêtes thé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é et transports / Formation et formation continue / Santé /  Familles et générations / Langue, religion et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Lien avec l‘enquête structurel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antillon de 10‘000-40‘000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lternance tous les 5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s thématiques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pécifiques au niveau suisse et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des grandes ré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"/>
                        <a:tabLst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MT: niveau des 31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plus grandes agglomérations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L‘approfondissement analytique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    de l‘ES correspond chaque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    année au sujet de l‘enquête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    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Omn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x flexible de thèmes selon les beso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antillon de 3‘000 person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353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s thématiques 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écifiques au niveau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Diffusion des résulta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66944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d181e"/>
                </a:solidFill>
                <a:latin typeface="Arial"/>
              </a:rPr>
              <a:t>Relevé fondé sur les regi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nnuellement, env. huit mois après le rele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d181e"/>
                </a:solidFill>
                <a:latin typeface="Arial"/>
              </a:rPr>
              <a:t>Enquête structur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onnées annuelles disponibles au plus tard une année après le jour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2013 -&gt; set de données cumulées 2010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Fin 2015 -&gt; set de données cumulées 2010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d181e"/>
                </a:solidFill>
                <a:latin typeface="Arial"/>
              </a:rPr>
              <a:t>Enquêtes thé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s résultats sont disponibles une année après la fin de l‘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ed181e"/>
                </a:solidFill>
                <a:latin typeface="Arial"/>
              </a:rPr>
              <a:t>Omni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Les résultats sont disponibles six mois après la fin de l‘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21840" y="1329840"/>
            <a:ext cx="7597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Relation entre résolution géographique et profondeur thématiq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"/>
          <p:cNvPicPr/>
          <p:nvPr/>
        </p:nvPicPr>
        <p:blipFill>
          <a:blip r:embed="rId1"/>
          <a:stretch/>
        </p:blipFill>
        <p:spPr>
          <a:xfrm>
            <a:off x="1222200" y="2374920"/>
            <a:ext cx="7510680" cy="3718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994280" y="3357720"/>
            <a:ext cx="1440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Can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ossibilités de densif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2200" y="2014200"/>
            <a:ext cx="77248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6320" indent="-3463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on l’art. 8 de la loi sur le recensement, les cantons ont la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nsifier les échantillons des enquê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des raisons pratiques et conceptuelles, la densification des enquêtes est soumise à d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par ex. au niveau des coûts, des capacités de relevé, de la charge des répond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densification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quête structurel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st coordonnée dans le cadre de la rencontre « Recensement » prévue chaque 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enquêtes théma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la densification est fixée à l’occasion de rencontres de coordination avec les cantons intéress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cantons coordonn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’évaluation des besoins pou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ituation concernant SILC et EBM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2488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emière réalisation de SILC en 2007. Premiers résultats disponibles à la fin de cette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ILC est une enquête complexe avec un panel rotatif qui, pour un ménage, dure quatre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ntrairement aux autres enquêtes de l’OFS, mais suivant les recom-mandations de l’EU, tous les membres du ménage sont interviewés par téléphone. En moyenne, l’interview d’un ménage coûte 200.- fra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 automne 2009: informations concernant la densification cant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a première enquête SILC densifiée serait imaginable en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squ’à présent, l’EBM n’a jamais été densifiée. En cas de besoin, nous sommes ouvert à la discussion. L’interview coûte env. 500.- fra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6920" y="1329840"/>
            <a:ext cx="78505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Où se trouvent les variables et l’output de ba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22200" y="2323800"/>
            <a:ext cx="795672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bleau 1: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bleaux 2 et 3: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tatistique de base concernant population, ménages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                        et habitat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ed181e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ed181e"/>
                </a:solidFill>
                <a:latin typeface="Arial"/>
              </a:rPr>
              <a:t>	</a:t>
            </a:r>
            <a:r>
              <a:rPr b="1" lang="fr-CH" sz="18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 Relevé fondé su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bleau 4: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tatistique structur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18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Enquête structur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bleaux 5 à 9: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tatistique pour les domaine thématique et domaine de vi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18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 Enquêtes 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1080" indent="-25488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125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Mobilité et tran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1080" indent="-25488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125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mation et formation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1080" indent="-25488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125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1080" indent="-25488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125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amilles et géné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1080" indent="-25488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1255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angue, religion et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217520" y="1928880"/>
            <a:ext cx="751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Informations d’approfondissement / consultation (cf. docum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42968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évision de l’ESP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22200" y="5289120"/>
            <a:ext cx="742968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ain V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ESPA 1991-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ESPA dès 2010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ériodicité/délais de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Schéma de ro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aille d’échantill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lan d’échantill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écision statistiq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ntroduction progress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évision du questionn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Modules nationaux et modules europé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onditions et coûts des densif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1840" y="1463760"/>
            <a:ext cx="746316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es principes de bases pour le nouveau RFP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222200" y="2050920"/>
            <a:ext cx="746316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40" indent="-14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e nouveau recensement se base en premier lieu sur des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registre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onnées administrative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(registres cantonaux et communaux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es habitants, registres fédéraux de personnes, Registre fédéral des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âtiments et des logemen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es besoins en informations supplémentaires sont couverts par des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enquêtes par échantillonnage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complémentaires (enquête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tructurelle, enquêtes thématiques, Omnib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’ensemble de la production statistique (de l’enquête jusqu’à l’output)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intégré et coordonné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ans un système global de « Statistiques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es ménages et des personnes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’ESPA 1991-2009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30200" y="2050920"/>
            <a:ext cx="746280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chantillon qui a varié de 16’000 à 40’000 person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chantillon actuel: 30’000 person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 plus dès 2003: échantillon spécial de 15’000 étrang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tratification régionale avec surreprésentation du Tess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menée durant le 2</a:t>
            </a:r>
            <a:r>
              <a:rPr b="0" lang="fr-CH" sz="2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trimestre (d’avril à jui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ersonnes interrogées durant 5 ans (1x par 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Questionnaire à 80-90% euro-compat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articipation volont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Durée d’environ 25 minutes en vague 1 et de 20 minutes pour les vagues suiv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4 modules nationaux: formation continue, sécurité sociale, travail non rémunéré, mig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’ESPA dès 201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révisée en raison de l’accord bilatéral dans le domaine de la statistiqu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rincipaux change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menée en continu sur toute l’année =&gt; données trimestri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Respect de certains critères de précision =&gt; agrandissement de l’échantill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Modification du schéma de ro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Révision du questionn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Nouvelles conditions de densif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ériodicité / délais de produc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quête contin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Répartition homogène des interviews sur toutes les semaines de l’ann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Objectif: obtenir des moyennes trimestrielles et annu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es données d’un trimestre doivent être envoyées à EUROSTAT dans les 3 mois qui suivent la fin du trimest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ar conséquent, l’objectif est aussi de publier les résultats trimestriels au plus tard trois mois après la fin du trimest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58920" y="2765520"/>
            <a:ext cx="6913440" cy="31114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chéma de rotation 3-9-3 (1)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98080" y="1916280"/>
            <a:ext cx="45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V1 = vague 1, V2 = vague 2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En grisé: parcours d’une personne participant à l’ES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chéma de rotation 3-9-3 (2)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21840" y="2050560"/>
            <a:ext cx="74631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chéma retenu car il constitue un compromis ent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a précision entre 2 trimestres consécutifs</a:t>
            </a:r>
            <a:br>
              <a:rPr sz="2400"/>
            </a:br>
            <a:r>
              <a:rPr b="1" i="1" lang="fr-CH" sz="1800" spc="-1" strike="noStrike">
                <a:solidFill>
                  <a:srgbClr val="ed181e"/>
                </a:solidFill>
                <a:latin typeface="Arial"/>
              </a:rPr>
              <a:t>Critère de précision le plus sévère fixé par EUROSTAT</a:t>
            </a:r>
            <a:br>
              <a:rPr sz="1800"/>
            </a:br>
            <a:r>
              <a:rPr b="0" i="1" lang="fr-CH" sz="1800" spc="-1" strike="noStrike">
                <a:solidFill>
                  <a:srgbClr val="ed181e"/>
                </a:solidFill>
                <a:latin typeface="Arial"/>
              </a:rPr>
              <a:t>Pour une sous-population représentant 5% de la population d’âge actif, l’erreur-type relative pour l’estimation des variations entre 2 trimestres consécutifs ne doit pas excéder 3% de la sous-population en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la précision entre un trimestre et le trimestre correspondant de l’année précédente</a:t>
            </a:r>
            <a:br>
              <a:rPr sz="2400"/>
            </a:br>
            <a:r>
              <a:rPr b="1" i="1" lang="fr-CH" sz="1800" spc="-1" strike="noStrike">
                <a:solidFill>
                  <a:srgbClr val="ed181e"/>
                </a:solidFill>
                <a:latin typeface="Arial"/>
              </a:rPr>
              <a:t>Besoins nationaux</a:t>
            </a:r>
            <a:br>
              <a:rPr sz="1800"/>
            </a:br>
            <a:r>
              <a:rPr b="0" i="1" lang="fr-CH" sz="1800" spc="-1" strike="noStrike">
                <a:solidFill>
                  <a:srgbClr val="ed181e"/>
                </a:solidFill>
                <a:latin typeface="Arial"/>
              </a:rPr>
              <a:t>Afin de faire abstraction des saisonnalités, les indicateurs du marché du travail sont le plus souvent comparés à 12 mois d’interva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chéma de rotation 3-9-3 (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222200" y="2949480"/>
            <a:ext cx="6912000" cy="31179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223640" y="205092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0% (théoriques) de recouvrement entre 2 trim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écu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chéma de rotation 3-9-3 (4)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222200" y="2949480"/>
            <a:ext cx="6913800" cy="3117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227960" y="2050920"/>
            <a:ext cx="73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0% (théoriques) de recouvrement à 1 an d’interv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Tailles nettes d’échantill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chantillon standar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95’000 interviews annu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viron 50’000 personnes différentes par ann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Echantillon d’étrangers 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21’000 interviews annu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Environ 11’000 personnes étrangères différentes par ann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Echantillon total 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116’000 interviews annu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100" spc="-1" strike="noStrike">
                <a:solidFill>
                  <a:srgbClr val="ed181e"/>
                </a:solidFill>
                <a:latin typeface="Arial"/>
              </a:rPr>
              <a:t>Environ 61’000 personnes différentes par anné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lan d’échantill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Mêmes principes que jusqu’i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Stratification proportionnelle par cant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ritère: répartition de la population de 15 ans et plus; ce n’est pas l’échantillon brut qui fait l’objet d’une allocation proportionnelle, mais l’échantillon net espéré en tenant compte des taux de réponse des années précéd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xception: surreprésentation du Tessin (6% de l’échantillon) en raison de son statut de grande région (critère EUROSTAT à respect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Précision statistiqu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Outils statistique qui sera présenté par Philippe Eichenber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omparaison sur la base de 2 indicateurs: </a:t>
            </a:r>
            <a:br>
              <a:rPr sz="2100"/>
            </a:b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1) Taux d’activité</a:t>
            </a:r>
            <a:br>
              <a:rPr sz="2100"/>
            </a:b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2) Taux de sans-empl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Comparaison entre ESPA actuelle, ESPA continue et relevé structur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9"/>
          <p:cNvSpPr/>
          <p:nvPr/>
        </p:nvSpPr>
        <p:spPr>
          <a:xfrm>
            <a:off x="2411280" y="165240"/>
            <a:ext cx="6527880" cy="652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9"/>
          <p:cNvSpPr/>
          <p:nvPr/>
        </p:nvSpPr>
        <p:spPr>
          <a:xfrm rot="17754600">
            <a:off x="1977120" y="198684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Société 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1"/>
          <p:cNvSpPr/>
          <p:nvPr/>
        </p:nvSpPr>
        <p:spPr>
          <a:xfrm>
            <a:off x="4583160" y="601992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Développement du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2"/>
          <p:cNvSpPr/>
          <p:nvPr/>
        </p:nvSpPr>
        <p:spPr>
          <a:xfrm rot="17928000">
            <a:off x="6990480" y="4554720"/>
            <a:ext cx="2359080" cy="503280"/>
          </a:xfrm>
          <a:prstGeom prst="leftRightArrow">
            <a:avLst>
              <a:gd name="adj1" fmla="val 50000"/>
              <a:gd name="adj2" fmla="val 93314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News Gothic Std"/>
                <a:ea typeface="MS Gothic"/>
              </a:rPr>
              <a:t>Pauvreté et exclusion so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4"/>
          <p:cNvSpPr/>
          <p:nvPr/>
        </p:nvSpPr>
        <p:spPr>
          <a:xfrm rot="3412200">
            <a:off x="2134080" y="465372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Egalité des ch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5"/>
          <p:cNvSpPr/>
          <p:nvPr/>
        </p:nvSpPr>
        <p:spPr>
          <a:xfrm>
            <a:off x="4537080" y="33336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Conditions de 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154320" y="932040"/>
            <a:ext cx="5089680" cy="508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 rot="11580000">
            <a:off x="5911560" y="3342960"/>
            <a:ext cx="2006640" cy="7858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Revenus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consom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 rot="8460000">
            <a:off x="5703840" y="2233440"/>
            <a:ext cx="2005200" cy="7876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Tr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 rot="20820000">
            <a:off x="3362400" y="3351240"/>
            <a:ext cx="2006640" cy="7873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 rot="6960000">
            <a:off x="4100040" y="4198680"/>
            <a:ext cx="1968480" cy="800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San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 rot="16200000">
            <a:off x="4680720" y="1815120"/>
            <a:ext cx="1968480" cy="8589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 rot="2340000">
            <a:off x="3614400" y="2265120"/>
            <a:ext cx="2008080" cy="7873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Langue, religion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et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 rot="14640000">
            <a:off x="5244840" y="4209840"/>
            <a:ext cx="1968480" cy="803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Mo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4940280" y="2717640"/>
            <a:ext cx="1384200" cy="1357560"/>
          </a:xfrm>
          <a:prstGeom prst="ellipse">
            <a:avLst/>
          </a:prstGeom>
          <a:gradFill rotWithShape="0">
            <a:gsLst>
              <a:gs pos="0">
                <a:srgbClr val="ed181e"/>
              </a:gs>
              <a:gs pos="100000">
                <a:srgbClr val="808080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900" spc="-1" strike="noStrike">
                <a:solidFill>
                  <a:srgbClr val="ffffff"/>
                </a:solidFill>
                <a:latin typeface="News Gothic Std"/>
                <a:ea typeface="MS Gothic"/>
              </a:rPr>
              <a:t>Indivi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900" spc="-1" strike="noStrike">
                <a:solidFill>
                  <a:srgbClr val="ffffff"/>
                </a:solidFill>
                <a:latin typeface="News Gothic Std"/>
                <a:ea typeface="MS Gothic"/>
              </a:rPr>
              <a:t>Mén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900" spc="-1" strike="noStrike">
                <a:solidFill>
                  <a:srgbClr val="ffffff"/>
                </a:solidFill>
                <a:latin typeface="News Gothic Std"/>
                <a:ea typeface="MS Gothic"/>
              </a:rPr>
              <a:t>Log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49320" y="1295280"/>
            <a:ext cx="2470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Informations </a:t>
            </a:r>
            <a:br>
              <a:rPr sz="1800"/>
            </a:b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de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 rot="3266400">
            <a:off x="6958800" y="162648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Prévoyance vieill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3"/>
          <p:cNvSpPr/>
          <p:nvPr/>
        </p:nvSpPr>
        <p:spPr>
          <a:xfrm>
            <a:off x="948240" y="3097080"/>
            <a:ext cx="1216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ff"/>
                </a:solidFill>
                <a:latin typeface="Arial"/>
              </a:rPr>
              <a:t>Domaines</a:t>
            </a:r>
            <a:br>
              <a:rPr sz="2000"/>
            </a:br>
            <a:r>
              <a:rPr b="1" lang="fr-CH" sz="2000" spc="-1" strike="noStrike">
                <a:solidFill>
                  <a:srgbClr val="0000ff"/>
                </a:solidFill>
                <a:latin typeface="Arial"/>
              </a:rPr>
              <a:t>de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4"/>
          <p:cNvSpPr/>
          <p:nvPr/>
        </p:nvSpPr>
        <p:spPr>
          <a:xfrm>
            <a:off x="945720" y="4815000"/>
            <a:ext cx="1643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808080"/>
                </a:solidFill>
                <a:latin typeface="Arial"/>
              </a:rPr>
              <a:t>Perspectives</a:t>
            </a:r>
            <a:br>
              <a:rPr sz="2000"/>
            </a:br>
            <a:r>
              <a:rPr b="1" lang="fr-CH" sz="2000" spc="-1" strike="noStrike">
                <a:solidFill>
                  <a:srgbClr val="808080"/>
                </a:solidFill>
                <a:latin typeface="Arial"/>
              </a:rPr>
              <a:t>transver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5"/>
          <p:cNvSpPr/>
          <p:nvPr/>
        </p:nvSpPr>
        <p:spPr>
          <a:xfrm>
            <a:off x="2454120" y="2459160"/>
            <a:ext cx="6404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Système statistique </a:t>
            </a:r>
            <a:br>
              <a:rPr sz="2300"/>
            </a:b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sur les ménages </a:t>
            </a:r>
            <a:br>
              <a:rPr sz="2300"/>
            </a:b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t les personnes </a:t>
            </a:r>
            <a:br>
              <a:rPr sz="2300"/>
            </a:br>
            <a:r>
              <a:rPr b="1" lang="fr-CH" sz="2300" spc="-1" strike="noStrike">
                <a:solidFill>
                  <a:srgbClr val="ee2025"/>
                </a:solidFill>
                <a:latin typeface="Arial"/>
              </a:rPr>
              <a:t>SHAP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Introduction progressive de l’enquête continu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222200" y="2421000"/>
            <a:ext cx="4969080" cy="3467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4"/>
          <p:cNvGrpSpPr/>
          <p:nvPr/>
        </p:nvGrpSpPr>
        <p:grpSpPr>
          <a:xfrm>
            <a:off x="6296040" y="3141720"/>
            <a:ext cx="2738520" cy="1313640"/>
            <a:chOff x="6296040" y="3141720"/>
            <a:chExt cx="2738520" cy="1313640"/>
          </a:xfrm>
        </p:grpSpPr>
        <p:sp>
          <p:nvSpPr>
            <p:cNvPr id="227" name="Text Box 5"/>
            <p:cNvSpPr/>
            <p:nvPr/>
          </p:nvSpPr>
          <p:spPr>
            <a:xfrm>
              <a:off x="6872760" y="3141720"/>
              <a:ext cx="216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Enquête conti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ple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opérationnelle 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fr-CH" sz="2000" spc="-1" strike="noStrike" baseline="30000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 trimestre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6296040" y="3573360"/>
              <a:ext cx="504720" cy="360000"/>
            </a:xfrm>
            <a:prstGeom prst="rightArrow">
              <a:avLst>
                <a:gd name="adj1" fmla="val 50000"/>
                <a:gd name="adj2" fmla="val 35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Révision du questionnair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Réduction des durées d’interviews (réduction des coûts et de la charge des personnes interrogé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UROSTAT: variables trimestrielles (doivent être construites pour tout l’échantillon à chaque trimestre), variables annuelles (à relever pour chaque personne 1x par an seulem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Pour les vagues 2 à 4: questions filtres principales pour détecter des changements de statut (économie de ques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Nouvelles questions: état de santé (Minimum European Health Module), statut princip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iste des variables provisoire à télécharger sur intern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Modules nationaux et europée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21840" y="2050560"/>
            <a:ext cx="77043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78560" indent="-1785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Modules menés en parallèle grâce à une séparation aléatoire de l’échantillon: maximum 2/3 pour le module national, minimum 1/3 pour le module europé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Modules intégrés uniquement en vague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8560" indent="-1785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Module « Formation continue » réalisé pour la dernière fois en 2009. Sera ensuite remplacé par une enquête thématiqu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85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58920" y="4125960"/>
          <a:ext cx="7705800" cy="1828800"/>
        </p:xfrm>
        <a:graphic>
          <a:graphicData uri="http://schemas.openxmlformats.org/drawingml/2006/table">
            <a:tbl>
              <a:tblPr/>
              <a:tblGrid>
                <a:gridCol w="792000"/>
                <a:gridCol w="2430720"/>
                <a:gridCol w="44830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nat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e EURO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ion contin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ée des jeunes sur le marché du trava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 non rémunéré et garde externe des enfa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iliation de la vie professionnelle et de la vie famili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écurité soci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i des personnes handicapé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gr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sage de la vie active à la retra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ditions des densificatio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365472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1857240"/>
          <a:ext cx="7704000" cy="3461040"/>
        </p:xfrm>
        <a:graphic>
          <a:graphicData uri="http://schemas.openxmlformats.org/drawingml/2006/table">
            <a:tbl>
              <a:tblPr/>
              <a:tblGrid>
                <a:gridCol w="3151080"/>
                <a:gridCol w="4552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sification maxi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ment de l’échantillon d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ériode contractuelle mini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but d’une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emières interviews sont réalisées au 1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rimestre d’une année donné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 d’une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ernières interviews sont réalisées au 4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rimestre d’une année donné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lai d’anno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anvier de l’année t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éma de rotation de la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ême schéma de rotation que l’échantillon d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èr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nsification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rimestre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33"/>
          <p:cNvSpPr/>
          <p:nvPr/>
        </p:nvSpPr>
        <p:spPr>
          <a:xfrm>
            <a:off x="1220040" y="5541840"/>
            <a:ext cx="5660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’échantillon d’étrangers ne peut pas être densifi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l n’est pas possible de ne densifier qu’un des deux modu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Schéma d’une densification 2010-201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365472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828720" y="1924200"/>
            <a:ext cx="3959280" cy="28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960720" cy="29080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6"/>
          <p:cNvSpPr/>
          <p:nvPr/>
        </p:nvSpPr>
        <p:spPr>
          <a:xfrm>
            <a:off x="5867280" y="4941720"/>
            <a:ext cx="2665440" cy="360360"/>
          </a:xfrm>
          <a:custGeom>
            <a:avLst/>
            <a:gdLst>
              <a:gd name="textAreaLeft" fmla="*/ 504360 w 2665440"/>
              <a:gd name="textAreaRight" fmla="*/ 1741680 w 26654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78" hR="21600" stAng="10800000" swAng="-5400000"/>
                <a:lnTo>
                  <a:pt x="10026" y="21600"/>
                </a:lnTo>
                <a:arcTo wR="8178" hR="21600" stAng="5400000" swAng="-2817608"/>
                <a:lnTo>
                  <a:pt x="21132" y="7200"/>
                </a:lnTo>
                <a:lnTo>
                  <a:pt x="17280" y="0"/>
                </a:lnTo>
                <a:lnTo>
                  <a:pt x="12492" y="7200"/>
                </a:lnTo>
                <a:lnTo>
                  <a:pt x="15888" y="7200"/>
                </a:lnTo>
                <a:arcTo wR="8178" hR="21600" stAng="2582392" swAng="2669693"/>
                <a:lnTo>
                  <a:pt x="9102" y="21462"/>
                </a:lnTo>
                <a:arcTo wR="8178" hR="21600" stAng="5547916" swAng="5252084"/>
                <a:close/>
              </a:path>
              <a:path fill="darkenLess" w="21600" h="21600">
                <a:moveTo>
                  <a:pt x="0" y="0"/>
                </a:moveTo>
                <a:arcTo wR="8178" hR="21600" stAng="10800000" swAng="-5400000"/>
                <a:lnTo>
                  <a:pt x="10026" y="21600"/>
                </a:lnTo>
                <a:arcTo wR="8178" hR="21600" stAng="5400000" swAng="147916"/>
                <a:lnTo>
                  <a:pt x="9102" y="21462"/>
                </a:lnTo>
                <a:arcTo wR="8178" hR="21600" stAng="5547916" swAng="525208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83960" y="54450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limination stratifiée p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éviter des ruptures de sé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ûts des densificatio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365472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22220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2009: montants forfaitaires qui couvrent le cadeau de</a:t>
            </a:r>
            <a:br>
              <a:rPr sz="1900"/>
            </a:b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5 francs en timbres et une contribution au frais de l’OFS:</a:t>
            </a:r>
            <a:br>
              <a:rPr sz="1900"/>
            </a:br>
            <a:br>
              <a:rPr sz="1900"/>
            </a:b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84 francs par interview en vague 1</a:t>
            </a:r>
            <a:br>
              <a:rPr sz="1900"/>
            </a:b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64 francs par interview pour les vagues 2 à 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Dès 2010, la durée des interviews sera réduite et les cadeaux seront supprimés.</a:t>
            </a:r>
            <a:br>
              <a:rPr sz="1900"/>
            </a:br>
            <a:br>
              <a:rPr sz="1900"/>
            </a:b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Estimation: 60 francs en moyenne</a:t>
            </a:r>
            <a:br>
              <a:rPr sz="1900"/>
            </a:b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Ces coûts seront précisés en fonction des durées constatées dans le pilote et de l’offre révisée de l’institut mandaté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alendrier de l’ESPA continue (1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1916280"/>
          <a:ext cx="7632720" cy="3794040"/>
        </p:xfrm>
        <a:graphic>
          <a:graphicData uri="http://schemas.openxmlformats.org/drawingml/2006/table">
            <a:tbl>
              <a:tblPr/>
              <a:tblGrid>
                <a:gridCol w="6480360"/>
                <a:gridCol w="115236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Demande de projet OK de la Direction de l’O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18.04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Conception générale OK de la Direction de l’O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14.08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Conception détaillée OK de la Direction de l’O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05.05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ilote vague 1 (test: questionnaire, obligation de répond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Juin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Pilote vague 2 (test: questionnaire, obligation de répond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Sept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Décision sur le maintien de l’échantillon d’étra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Sept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Rapport sur l’enquête-pil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Nov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écision définitive quant à l’obligation de répond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Nov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Précision de l’offre par l’institut manda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éc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alendrier de l’ESPA continue (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16000" y="1996920"/>
          <a:ext cx="7704000" cy="2951280"/>
        </p:xfrm>
        <a:graphic>
          <a:graphicData uri="http://schemas.openxmlformats.org/drawingml/2006/table">
            <a:tbl>
              <a:tblPr/>
              <a:tblGrid>
                <a:gridCol w="6394320"/>
                <a:gridCol w="130968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Information écrite aux cantons sur le coûts des dens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éc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élai d’annonce des densifications 2010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31.01.0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Plan d’échantillon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3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Tirage de l’échantillon pour le 3</a:t>
                      </a:r>
                      <a:r>
                        <a:rPr b="0" lang="fr-CH" sz="1800" spc="-1" strike="noStrike" baseline="30000">
                          <a:solidFill>
                            <a:srgbClr val="ed181e"/>
                          </a:solidFill>
                          <a:latin typeface="Arial"/>
                        </a:rPr>
                        <a:t>e</a:t>
                      </a: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trimestr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Introduction progressive de l’enquête 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Juillet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Enquête continue pleinement opérationn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Envoi des données du 1</a:t>
                      </a:r>
                      <a:r>
                        <a:rPr b="0" lang="fr-CH" sz="1800" spc="-1" strike="noStrike" baseline="30000">
                          <a:solidFill>
                            <a:srgbClr val="ed181e"/>
                          </a:solidFill>
                          <a:latin typeface="Arial"/>
                        </a:rPr>
                        <a:t>er</a:t>
                      </a: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trim. 2010 à Euro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Juin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Text Box 29"/>
          <p:cNvSpPr/>
          <p:nvPr/>
        </p:nvSpPr>
        <p:spPr>
          <a:xfrm>
            <a:off x="1227960" y="5218200"/>
            <a:ext cx="67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* Exceptionnellement fixé 1 mois plus tard que selon les conditions</a:t>
            </a:r>
            <a:br>
              <a:rPr sz="1800"/>
            </a:b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  énoncées auparav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1840" y="277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ocumentation disponible sur le portail de l’OFS: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ttp://www.bfs.admin.ch/bfs/portal/fr/index/news/00/03/01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21840" y="1331640"/>
            <a:ext cx="78505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Enquête suisse </a:t>
            </a:r>
            <a:br>
              <a:rPr sz="3400"/>
            </a:b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sur la population active (ESPA)</a:t>
            </a:r>
            <a:br>
              <a:rPr sz="3400"/>
            </a:br>
            <a:br>
              <a:rPr sz="3400"/>
            </a:b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Précision et densific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21840" y="5289480"/>
            <a:ext cx="731052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22200" y="2014200"/>
            <a:ext cx="7669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108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Univers de base</a:t>
            </a:r>
            <a:r>
              <a:rPr b="1" lang="fr-CH" sz="1600" spc="-1" strike="noStrike">
                <a:solidFill>
                  <a:srgbClr val="ed181e"/>
                </a:solidFill>
                <a:latin typeface="Arial"/>
              </a:rPr>
              <a:t>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es univers de base fixent le cadre des statistiques sur les ménages et personnes.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opulation résidante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Ménages privés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Bâtiments habités ou habitables et logements</a:t>
            </a:r>
            <a:r>
              <a:rPr b="1" lang="fr-CH" sz="16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108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Sous-populations</a:t>
            </a:r>
            <a:r>
              <a:rPr b="1" lang="fr-CH" sz="1600" spc="-1" strike="noStrike">
                <a:solidFill>
                  <a:srgbClr val="ed181e"/>
                </a:solidFill>
                <a:latin typeface="Arial"/>
              </a:rPr>
              <a:t>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L’ensemble de la population est hétérogène et demande une différenciation de la population en sous-catégories :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hommes / femmes 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ersonnes actives / personnes non-actives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personnes issues ou pas issues de la migration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ménages individuels / ménages familiaux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108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Arial"/>
              </a:rPr>
              <a:t>Variables clés</a:t>
            </a:r>
            <a:br>
              <a:rPr sz="1600"/>
            </a:b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Afin d’établir des univers de base homogènes et des sous-populations comparables, il est nécessaire de définir des 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variables communes à toutes les enquêtes</a:t>
            </a: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es principes de bases de SHAP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6805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SP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45344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95’000 interviews par CATI réparties sur toute l’année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hoix du ménage puis de la personne-cible (15 ans et +)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ersonnes-cibles interviewées 4 fois sur 15 mois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50’000 personnes différentes interviewées pa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épartition proportionnelle de l’échantillon (avec TI, grande région, légèrement surreprése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ritères européens sur la 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Transversale: Taux de chômage moyen pa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ongitudinale: Différence entre 2 trimestres consécu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cherche d’un compromis pour satisfaire les crit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6734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SP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526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i les corrélations sont élev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couvrement fa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1778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ff"/>
                </a:solidFill>
                <a:latin typeface="Wingdings 2"/>
                <a:ea typeface="Wingdings 2"/>
              </a:rPr>
              <a:t></a:t>
            </a:r>
            <a:r>
              <a:rPr b="0" lang="fr-CH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ur les moyenn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1778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Wingdings 2"/>
                <a:ea typeface="Wingdings 2"/>
              </a:rPr>
              <a:t>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ur les é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couvrement élev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1778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ed181e"/>
                </a:solidFill>
                <a:latin typeface="Wingdings 2"/>
                <a:ea typeface="Wingdings 2"/>
              </a:rPr>
              <a:t>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ur les moyenn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1778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ff"/>
                </a:solidFill>
                <a:latin typeface="Wingdings 2"/>
                <a:ea typeface="Wingdings 2"/>
              </a:rPr>
              <a:t></a:t>
            </a:r>
            <a:r>
              <a:rPr b="0" lang="fr-CH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ur les é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chéma 3 - 9 – 3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view I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 moi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view II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9 mois </a:t>
            </a:r>
            <a:br>
              <a:rPr sz="1800"/>
            </a:b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view III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3 moi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view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asées sur des hypothèses sur les corrélations et les taux de réponse selon l’ESPA actuelle mais à confi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9218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Schéma de rot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719280" y="2022480"/>
            <a:ext cx="8316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021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chantillons cantonaux et précis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90640" y="1760400"/>
          <a:ext cx="7993080" cy="4410360"/>
        </p:xfrm>
        <a:graphic>
          <a:graphicData uri="http://schemas.openxmlformats.org/drawingml/2006/table">
            <a:tbl>
              <a:tblPr/>
              <a:tblGrid>
                <a:gridCol w="2119320"/>
                <a:gridCol w="1339920"/>
                <a:gridCol w="1004760"/>
                <a:gridCol w="1006560"/>
                <a:gridCol w="1295280"/>
                <a:gridCol w="12272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OP 2006 - 15 ans et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yenne annuel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au géograph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ux d'activ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antil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 IC (9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8'8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'1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on léman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158'7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'1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'5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'0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e Mittel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37'4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'2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du Nord o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2'2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7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'8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ür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092'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'1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'3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6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ori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'5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'1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cent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'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'7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'6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'326'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'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Comment comprendre la précision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0256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Que veut dir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Cela signif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On peut estimer une proportion de 10% avec une précision de ±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Les erreur aléatoires que l’on va commettre lors de l’estimation d’une proportion de 10%, ne vont (presque certainement) pas dépasser ± 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La proportion estimée sera presque certainement comprise dans l’intervalle 10% ± 1.2%, c.-à-d. entre 8.8% et 1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Offre de densification de l’OF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58920" y="1925640"/>
          <a:ext cx="7416720" cy="4200480"/>
        </p:xfrm>
        <a:graphic>
          <a:graphicData uri="http://schemas.openxmlformats.org/drawingml/2006/table">
            <a:tbl>
              <a:tblPr/>
              <a:tblGrid>
                <a:gridCol w="3024000"/>
                <a:gridCol w="4392720"/>
              </a:tblGrid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é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fication maxi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ment de l’échantillon d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ériode contractuelle mini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ébut d’une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remières interviews sont réalisées au 1er trimestre d’une année donné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 d’une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dernières interviews sont réalisées au 4e trimestre d’une année donné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élai d’anno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janvier de l’année t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 de rotation de la den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ême schéma de rotation que l’échantillon d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ère densification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trimestre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Offre de densification de l’OF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212840" y="1989000"/>
            <a:ext cx="74628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Outil pour définir la densific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991640" cy="1439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7920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Outil pour définir la densific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e taux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d’activité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et le taux de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sans-emploi,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stimation de la précision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moyenne annu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différence entre 2 trimestres consécuti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a différence entre 2 trimestres semblables de 2 années qui se sui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a différence entre 2 moyennes annuelles consécu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ssibilité d’estimer la précision avec ajout d’un échantillon complémentaire (densifi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850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Enquêtes thématiques</a:t>
            </a:r>
            <a:br>
              <a:rPr sz="3400"/>
            </a:b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(sans « mobilité et transports »)</a:t>
            </a:r>
            <a:br>
              <a:rPr sz="3400"/>
            </a:br>
            <a:br>
              <a:rPr sz="3400"/>
            </a:br>
            <a:r>
              <a:rPr b="1" lang="fr-CH" sz="3400" spc="-1" strike="noStrike">
                <a:solidFill>
                  <a:srgbClr val="000000"/>
                </a:solidFill>
                <a:latin typeface="Arial"/>
              </a:rPr>
              <a:t>Précision et densific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222200" y="5289480"/>
            <a:ext cx="70948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21840" y="2014560"/>
            <a:ext cx="746316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géographiques pour la localisation du mé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démograph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ayant trait à la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ayant trait au marché du trav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ayant trait à la formation ache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ayant trait à la structure du ménage et à la 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36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ayant trait au lo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Variables clé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221840" y="2050920"/>
            <a:ext cx="7526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6028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« Formation et formation continue »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1</a:t>
            </a:r>
            <a:br>
              <a:rPr sz="2200"/>
            </a:b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« Santé »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2</a:t>
            </a:r>
            <a:br>
              <a:rPr sz="2200"/>
            </a:b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« Famille et générations »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3</a:t>
            </a:r>
            <a:br>
              <a:rPr sz="2200"/>
            </a:b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« Langue, religion et culture »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280" indent="0">
              <a:lnSpc>
                <a:spcPct val="110000"/>
              </a:lnSpc>
              <a:buNone/>
              <a:tabLst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terviews par téléphone (CATI); Echantillon net: 10’000  personnes (&gt;= 15 ans), vivant dans des ménages priv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280" indent="0">
              <a:lnSpc>
                <a:spcPct val="110000"/>
              </a:lnSpc>
              <a:buNone/>
              <a:tabLst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Répartition proportionnelle de l’échantillon sur la Suisse avec une légère surreprésentation du Tessin (= grande ré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nquêtes thématiques ≠ «Mobilité et transports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9218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nquêtes thématiques: Echantillons cantonaux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1844640"/>
          <a:ext cx="8137440" cy="4694400"/>
        </p:xfrm>
        <a:graphic>
          <a:graphicData uri="http://schemas.openxmlformats.org/drawingml/2006/table">
            <a:tbl>
              <a:tblPr/>
              <a:tblGrid>
                <a:gridCol w="2293920"/>
                <a:gridCol w="1182600"/>
                <a:gridCol w="942840"/>
                <a:gridCol w="1109880"/>
                <a:gridCol w="1036440"/>
                <a:gridCol w="15717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le de tolérance (95%) pour 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s / Cant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= 15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a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8'8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on léman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158'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'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e Mitte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37'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'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du nord-o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2'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ür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092'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'3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orien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'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 centr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'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'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'326'0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'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Comment comprendre la précision?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0256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Que veut dire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Cela signif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On peut estimer une proportion de 10% avec une précision </a:t>
            </a:r>
            <a:br>
              <a:rPr sz="2000"/>
            </a:b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de ±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Les erreur aléatoires que l’on va commettre lors de l’estimation d’une proportion de 10%, ne vont (presque certainement) pas dépasser ± 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Arial"/>
              </a:rPr>
              <a:t>La proportion estimée sera presque certainement comprise dans l’intervalle 10% ± 1.2%, c.-à-d. entre 8.8% et 1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Enquêtes thématiques 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  <a:ea typeface="Arial"/>
              </a:rPr>
              <a:t>≠ «Mobilité et transports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1840" y="2409840"/>
            <a:ext cx="7705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ditions de dens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Densification uniforme sur tout le can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 total, un échantillon cantonal après densification ne peut pas dépasser 4 fois l’échantillon d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 total, l’échantillon du Tessin après densification ne peut pas dépasser 2 fois l’échantillon de base de l’O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Max. 40’000 personnes pour toute la Su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69501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Outil pour définir la densific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7583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e système intégré à l’exemple du domaine « travail et vie active »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9616800">
            <a:off x="2442960" y="2449080"/>
            <a:ext cx="1427040" cy="19702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Travail 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vie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2595600" y="3638520"/>
            <a:ext cx="1820880" cy="17510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2558880" y="3516480"/>
            <a:ext cx="1917720" cy="1977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 rot="5275800">
            <a:off x="2503800" y="351540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 rot="2827200">
            <a:off x="2513160" y="3515400"/>
            <a:ext cx="1990800" cy="200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 rot="220800">
            <a:off x="2525400" y="3509640"/>
            <a:ext cx="1990800" cy="19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 rot="18854400">
            <a:off x="2534400" y="3497760"/>
            <a:ext cx="1990800" cy="19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 rot="16200000">
            <a:off x="2540520" y="3513600"/>
            <a:ext cx="1990800" cy="197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 rot="13612200">
            <a:off x="2528640" y="3513240"/>
            <a:ext cx="1990800" cy="19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 rot="10417800">
            <a:off x="2498400" y="3514320"/>
            <a:ext cx="1990800" cy="198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 rot="7688400">
            <a:off x="2497320" y="351540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3071880" y="4071960"/>
            <a:ext cx="900000" cy="90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Basid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5"/>
          <p:cNvSpPr/>
          <p:nvPr/>
        </p:nvSpPr>
        <p:spPr>
          <a:xfrm rot="19219200">
            <a:off x="2425680" y="3097080"/>
            <a:ext cx="110016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3500280" y="2641680"/>
            <a:ext cx="1094040" cy="33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3456000" y="4183200"/>
            <a:ext cx="8096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1722600" y="5056920"/>
            <a:ext cx="6494400" cy="895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2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Registre des personnes de la Confédération, des cantons et des communes / Registres des bâtiments et des lo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3341520" y="3849840"/>
            <a:ext cx="1352880" cy="66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4715640" y="4388040"/>
            <a:ext cx="2173320" cy="346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quête structur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4593240" y="2826000"/>
            <a:ext cx="3011400" cy="34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quête thématique (ES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3359160" y="2892600"/>
            <a:ext cx="123048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3446640" y="3569760"/>
            <a:ext cx="1450800" cy="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4867200" y="3393360"/>
            <a:ext cx="4076640" cy="89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clé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relevées dans toutes 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quêtes comme caractères comm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69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e système intégré : les éléments d’intégr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9616800">
            <a:off x="2443320" y="2459160"/>
            <a:ext cx="1427040" cy="19699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Travail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vie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2595600" y="3648240"/>
            <a:ext cx="1820880" cy="1750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558880" y="3525840"/>
            <a:ext cx="1917720" cy="19782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 rot="5275800">
            <a:off x="2503800" y="3524760"/>
            <a:ext cx="199044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 rot="2827200">
            <a:off x="2513160" y="3524760"/>
            <a:ext cx="1990800" cy="200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 rot="220800">
            <a:off x="2525400" y="3519000"/>
            <a:ext cx="1990800" cy="19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 rot="18854400">
            <a:off x="2534760" y="3507120"/>
            <a:ext cx="1990440" cy="19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"/>
          <p:cNvSpPr/>
          <p:nvPr/>
        </p:nvSpPr>
        <p:spPr>
          <a:xfrm rot="16200000">
            <a:off x="2540520" y="3523320"/>
            <a:ext cx="1990800" cy="197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 rot="13612200">
            <a:off x="2528640" y="3522600"/>
            <a:ext cx="1990800" cy="19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 rot="10417800">
            <a:off x="2498400" y="352368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 rot="7688400">
            <a:off x="2497320" y="3524760"/>
            <a:ext cx="199044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3071880" y="4081320"/>
            <a:ext cx="900000" cy="90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onnées d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 rot="19219200">
            <a:off x="2425680" y="3106800"/>
            <a:ext cx="110016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3500280" y="2651040"/>
            <a:ext cx="1094040" cy="33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3456000" y="4192560"/>
            <a:ext cx="6984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640600" y="534672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GID, EWID, nouveau numéro A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3429000" y="3578400"/>
            <a:ext cx="11653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4594320" y="3902040"/>
            <a:ext cx="37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ariables clés harmoni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1"/>
          <p:cNvSpPr/>
          <p:nvPr/>
        </p:nvSpPr>
        <p:spPr>
          <a:xfrm rot="19161000">
            <a:off x="3122640" y="3827160"/>
            <a:ext cx="133200" cy="577800"/>
          </a:xfrm>
          <a:custGeom>
            <a:avLst/>
            <a:gdLst>
              <a:gd name="textAreaLeft" fmla="*/ 39240 w 133200"/>
              <a:gd name="textAreaRight" fmla="*/ 133200 w 13320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019600" y="3851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N° A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3"/>
          <p:cNvSpPr/>
          <p:nvPr/>
        </p:nvSpPr>
        <p:spPr>
          <a:xfrm rot="19161000">
            <a:off x="2819520" y="3255480"/>
            <a:ext cx="204840" cy="1184400"/>
          </a:xfrm>
          <a:custGeom>
            <a:avLst/>
            <a:gdLst>
              <a:gd name="textAreaLeft" fmla="*/ 60120 w 204840"/>
              <a:gd name="textAreaRight" fmla="*/ 205200 w 204840"/>
              <a:gd name="textAreaTop" fmla="*/ 49320 h 1184400"/>
              <a:gd name="textAreaBottom" fmla="*/ 1135080 h 11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Le RFP comme élément d’un système glob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238560" y="4462560"/>
            <a:ext cx="4686120" cy="155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38560" y="2014560"/>
            <a:ext cx="4680000" cy="2368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22200" y="2014560"/>
            <a:ext cx="1872000" cy="23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uvelles enquêtes dans le cadre du recensement à partir d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222200" y="4462560"/>
            <a:ext cx="1838520" cy="15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s actuel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638520" y="2152800"/>
            <a:ext cx="3952800" cy="771480"/>
          </a:xfrm>
          <a:prstGeom prst="roundRect">
            <a:avLst>
              <a:gd name="adj" fmla="val 90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Relevés fondés sur les regis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Registres de personnes, registre des bâtiments et des log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637080" y="2925720"/>
            <a:ext cx="3943080" cy="57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 structu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Grand échantillon annuel pour les variables non contenues dans les regist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637080" y="3500280"/>
            <a:ext cx="3948120" cy="576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s thém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Mobilité“, „Formation“, „Santé“, „Familles“, „Langue, religion et culture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637080" y="4076640"/>
            <a:ext cx="3948120" cy="208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Omni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3637080" y="5416560"/>
            <a:ext cx="3943080" cy="460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 sur le budget des mén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(E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3637080" y="4959360"/>
            <a:ext cx="39430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s sur les revenus et les conditions de vie (SIL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3637080" y="4495680"/>
            <a:ext cx="3936960" cy="4604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nquête suisse sur la population active</a:t>
            </a:r>
            <a:br>
              <a:rPr sz="1400"/>
            </a:b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(ESP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66944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Enquêtes thématiques dans le cadre du RFP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1840" y="2014200"/>
            <a:ext cx="74631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ed181e"/>
                </a:solidFill>
                <a:latin typeface="Arial"/>
              </a:rPr>
              <a:t>Enquêtes téléphoniques par échantillon auprè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ed181e"/>
                </a:solidFill>
                <a:latin typeface="Arial"/>
              </a:rPr>
              <a:t>10’000 à 40’000 personnes sur les thè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010: Mobilité et tran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011: Formation et formation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012: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013: Familles et géné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014: Langue, religion et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b2b2b2"/>
                </a:solidFill>
                <a:latin typeface="Arial"/>
              </a:rPr>
              <a:t>2015: Mobilité et tran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b2b2b2"/>
                </a:solidFill>
                <a:latin typeface="Arial"/>
              </a:rPr>
              <a:t>2016: Formation et formation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b2b2b2"/>
                </a:solidFill>
                <a:latin typeface="Arial"/>
              </a:rPr>
              <a:t>…</a:t>
            </a:r>
            <a:r>
              <a:rPr b="0" lang="fr-CH" sz="2000" spc="-1" strike="noStrike">
                <a:solidFill>
                  <a:srgbClr val="b2b2b2"/>
                </a:solidFill>
                <a:latin typeface="Arial"/>
              </a:rPr>
              <a:t>..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7:05Z</dcterms:created>
  <dc:creator>Marco Buscher</dc:creator>
  <dc:description/>
  <dc:language>en-US</dc:language>
  <cp:lastModifiedBy>Christoph Freymond</cp:lastModifiedBy>
  <cp:lastPrinted>2003-11-14T16:51:38Z</cp:lastPrinted>
  <dcterms:modified xsi:type="dcterms:W3CDTF">2008-09-16T09:31:14Z</dcterms:modified>
  <cp:revision>303</cp:revision>
  <dc:subject/>
  <dc:title>Inhaltsverzeichnis Informationsauftrag der Haushalts- und Personenstatistiken (Entwurf)</dc:title>
</cp:coreProperties>
</file>