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1.jpeg" ContentType="image/jpeg"/>
  <Override PartName="/ppt/media/image7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93880" y="733320"/>
            <a:ext cx="4884480" cy="366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87040" y="4643280"/>
            <a:ext cx="48942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284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778200" y="9284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5E5F885A-E0C2-40DF-9D67-BF19476FA6EA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778200" y="9285120"/>
            <a:ext cx="2890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9D44F114-323A-4FB5-A327-86BFAC160ACD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93880" y="733320"/>
            <a:ext cx="4884480" cy="36640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87040" y="4643280"/>
            <a:ext cx="489420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778200" y="9285120"/>
            <a:ext cx="2890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CCF65BA7-1C78-4E9F-BA20-A151E87B0A7D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93880" y="733320"/>
            <a:ext cx="4884480" cy="36640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87040" y="4643280"/>
            <a:ext cx="48942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Nun zu den Ergebnisse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778200" y="9285120"/>
            <a:ext cx="2890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8B7A2468-E0A1-4B7E-B1A5-02598DCBBEE1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90640" y="73188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87040" y="4641840"/>
            <a:ext cx="489420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5280" y="119700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5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3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6B19-F53B-414C-B26F-9F6CF541AA52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34"/>
          <p:cNvSpPr/>
          <p:nvPr/>
        </p:nvSpPr>
        <p:spPr>
          <a:xfrm>
            <a:off x="1147680" y="6094440"/>
            <a:ext cx="7386840" cy="74664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Journée d‘information consacrée aux enquêtes thématiques 2010 – 2014, à l‘Enquête suisse sur la population active (dès septembre 2009) et au microrecensement 2010 sur la mobilité et les transpor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CH" sz="9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partie: microrecensment mobilité et transports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16.09.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40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2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7" name="Text Box 45"/>
          <p:cNvSpPr/>
          <p:nvPr/>
        </p:nvSpPr>
        <p:spPr>
          <a:xfrm>
            <a:off x="4643280" y="189000"/>
            <a:ext cx="35816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Département fédéral de l‘intérieur DFI</a:t>
            </a:r>
            <a:br>
              <a:rPr sz="800"/>
            </a:b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Département fédéral de l‘environnement, des transports, de l‘énergie</a:t>
            </a:r>
            <a:br>
              <a:rPr sz="800"/>
            </a:b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et de la communication DETEC</a:t>
            </a:r>
            <a:br>
              <a:rPr sz="800"/>
            </a:b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Office fédéral du développement territorial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2"/>
          <p:cNvSpPr/>
          <p:nvPr/>
        </p:nvSpPr>
        <p:spPr>
          <a:xfrm>
            <a:off x="4643280" y="189000"/>
            <a:ext cx="358164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Département fédéral de l‘intérieur DFI</a:t>
            </a:r>
            <a:br>
              <a:rPr sz="800"/>
            </a:b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Département fédéral de l‘environnement, des transports, de l‘énergie</a:t>
            </a:r>
            <a:br>
              <a:rPr sz="800"/>
            </a:b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et de la communication DETEC</a:t>
            </a:r>
            <a:br>
              <a:rPr sz="800"/>
            </a:b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Office fédéral du développement territorial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7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images.google.ch/imgres?imgurl=www.sa-cnet.com/clipart/south_africa/forest.jpg&amp;imgrefurl=http://www.sa-cnet.com/south_africa/rainbow_nation/9_mpumalanga.html&amp;h=153&amp;w=213&amp;prev=/images%3Fq%3Dclipart%2Bforest%26svnum%3D10%26hl%3Dfr%26lr%3D%26ie%3DUTF-8%26oe%3DUTF-8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hyperlink" Target="http://www.himinnesota.org/assets/clipart/trainstation.gif" TargetMode="External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hyperlink" Target="http://www.himinnesota.org/assets/clipart/trainstation.gif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6720" y="1557360"/>
            <a:ext cx="7429320" cy="2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000000"/>
                </a:solidFill>
                <a:latin typeface="Arial"/>
              </a:rPr>
              <a:t>Microrecensement mobilité et transports 2010</a:t>
            </a:r>
            <a:br>
              <a:rPr sz="4800"/>
            </a:b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Bienvenue  -  Willkommen  –   Benvenuti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581000"/>
            <a:ext cx="74296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eter Glauser, O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Marc Gindraux / Roger Evéquoz O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Kurt Infanger / Davide Marconi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Journée d‘information du 16.09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112536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Contenu du MRM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80838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1197000"/>
            <a:ext cx="7715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Résultats 2005: 19'000 kilomètres par année,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57% en transport individuel motoris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6" descr=""/>
          <p:cNvPicPr/>
          <p:nvPr/>
        </p:nvPicPr>
        <p:blipFill>
          <a:blip r:embed="rId1"/>
          <a:srcRect l="605" t="0" r="1210" b="2345"/>
          <a:stretch/>
        </p:blipFill>
        <p:spPr>
          <a:xfrm>
            <a:off x="826920" y="1989000"/>
            <a:ext cx="78775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8487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Autres exemples de résultats du MRM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746280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omaines d‘application du MRM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0760" y="1650960"/>
            <a:ext cx="2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71640" y="170028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Modification de comportement: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séries temporelles et effets de cohort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Futur des transports en Suisse: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projections, perspectives et scénario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lanification des transports et de l‘aménagement du territoire à l‘échelle nationale et régionale</a:t>
            </a: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onnées de base pour les plans sectoriels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Conception des transports: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dicateurs comparatifs entre agglomérations et zones rurales (Benchmark)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Planification de l‘infrastructure: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nds d‘infrastructure, programmes d‘agglo-mération, projets ferroviaires, fonctionnalité du réseau routier national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Modélisation des transports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put pour les modèles nationaux et régionaux (transport de person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Répartition modale: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partition entre transports motorisés privés / transports publics / mobilité douce en fonction des motifs de déplacement (pendularité, achats, déplacements professionnels, loisirs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onnées de base des transports</a:t>
            </a: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ratégies trafic de loisirs / mobilité douce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2.3 Nouveau cadre constitutionnel pour le MRMT 20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119664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RMT 2010: nouveau cadre constitutionn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71866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1196640"/>
            <a:ext cx="75247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MRMT 2010: organisation de proj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0483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781000"/>
            <a:ext cx="8280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2.4 Méthode et innovations </a:t>
            </a:r>
            <a:br>
              <a:rPr sz="3600"/>
            </a:b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     du MRMT 20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604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RMT 2010: 40‘000 personnes, 31 agglomé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612144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6-756454204"/>
          <p:cNvPicPr/>
          <p:nvPr/>
        </p:nvPicPr>
        <p:blipFill>
          <a:blip r:embed="rId1"/>
          <a:stretch/>
        </p:blipFill>
        <p:spPr>
          <a:xfrm>
            <a:off x="7020000" y="3141720"/>
            <a:ext cx="130968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80-679512880"/>
          <p:cNvPicPr/>
          <p:nvPr/>
        </p:nvPicPr>
        <p:blipFill>
          <a:blip r:embed="rId2"/>
          <a:stretch/>
        </p:blipFill>
        <p:spPr>
          <a:xfrm>
            <a:off x="4140360" y="2060640"/>
            <a:ext cx="852480" cy="8827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 rot="12271800">
            <a:off x="5062680" y="3122280"/>
            <a:ext cx="2233440" cy="411120"/>
          </a:xfrm>
          <a:prstGeom prst="leftArrow">
            <a:avLst>
              <a:gd name="adj1" fmla="val 50000"/>
              <a:gd name="adj2" fmla="val 135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587920" y="2171880"/>
            <a:ext cx="186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fr-CH" sz="1600" spc="-1" strike="noStrike" baseline="30000">
                <a:solidFill>
                  <a:srgbClr val="0066ff"/>
                </a:solidFill>
                <a:latin typeface="Arial"/>
              </a:rPr>
              <a:t>er </a:t>
            </a:r>
            <a:r>
              <a:rPr b="1" lang="de-CH" sz="1600" spc="-1" strike="noStrike">
                <a:solidFill>
                  <a:srgbClr val="0066ff"/>
                </a:solidFill>
                <a:latin typeface="Arial"/>
              </a:rPr>
              <a:t>déplacement: trav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fore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0920" y="4724280"/>
            <a:ext cx="1160640" cy="11509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7"/>
          <p:cNvSpPr/>
          <p:nvPr/>
        </p:nvSpPr>
        <p:spPr>
          <a:xfrm rot="21120600">
            <a:off x="3490920" y="4777920"/>
            <a:ext cx="3565440" cy="379440"/>
          </a:xfrm>
          <a:prstGeom prst="leftArrow">
            <a:avLst>
              <a:gd name="adj1" fmla="val 50000"/>
              <a:gd name="adj2" fmla="val 2349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4788000" y="5300640"/>
            <a:ext cx="22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de-CH" sz="14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déplacement: loisirs (barbec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 rot="7705800">
            <a:off x="2278080" y="3541680"/>
            <a:ext cx="2152800" cy="295200"/>
          </a:xfrm>
          <a:prstGeom prst="leftArrow">
            <a:avLst>
              <a:gd name="adj1" fmla="val 50000"/>
              <a:gd name="adj2" fmla="val 1823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1258920" y="328464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Dernier déplacement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retour au dom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295280" y="1197000"/>
            <a:ext cx="7462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obilité journalière: les dépla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773360"/>
            <a:ext cx="77407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5640" indent="-39564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Accueil et message de bienven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Microrecensement mobilité et transports (MRMT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Contenu et utilisation du MR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Nouveau cadre institutionnel pour le MRMT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Méthode et innovations du MRMT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iffusion et calend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2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Précision et possibilité de dens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2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Suite des opé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2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Résumé et 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6-756454204"/>
          <p:cNvPicPr/>
          <p:nvPr/>
        </p:nvPicPr>
        <p:blipFill>
          <a:blip r:embed="rId1"/>
          <a:stretch/>
        </p:blipFill>
        <p:spPr>
          <a:xfrm>
            <a:off x="7203960" y="1878120"/>
            <a:ext cx="1111320" cy="16812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3"/>
          <p:cNvGrpSpPr/>
          <p:nvPr/>
        </p:nvGrpSpPr>
        <p:grpSpPr>
          <a:xfrm>
            <a:off x="1332000" y="2492280"/>
            <a:ext cx="6102360" cy="912600"/>
            <a:chOff x="1332000" y="2492280"/>
            <a:chExt cx="6102360" cy="912600"/>
          </a:xfrm>
        </p:grpSpPr>
        <p:pic>
          <p:nvPicPr>
            <p:cNvPr id="137" name="Picture 4" descr="80-679512880"/>
            <p:cNvPicPr/>
            <p:nvPr/>
          </p:nvPicPr>
          <p:blipFill>
            <a:blip r:embed="rId2"/>
            <a:stretch/>
          </p:blipFill>
          <p:spPr>
            <a:xfrm>
              <a:off x="1332000" y="2643120"/>
              <a:ext cx="6714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AutoShape 5"/>
            <p:cNvSpPr/>
            <p:nvPr/>
          </p:nvSpPr>
          <p:spPr>
            <a:xfrm>
              <a:off x="2132280" y="2947680"/>
              <a:ext cx="5302080" cy="327240"/>
            </a:xfrm>
            <a:prstGeom prst="rightArrow">
              <a:avLst>
                <a:gd name="adj1" fmla="val 50000"/>
                <a:gd name="adj2" fmla="val 405061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3084480" y="2492280"/>
              <a:ext cx="19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66ff"/>
                  </a:solidFill>
                  <a:latin typeface="Arial"/>
                </a:rPr>
                <a:t>1</a:t>
              </a:r>
              <a:r>
                <a:rPr b="1" lang="de-CH" sz="1600" spc="-1" strike="noStrike" baseline="30000">
                  <a:solidFill>
                    <a:srgbClr val="0066ff"/>
                  </a:solidFill>
                  <a:latin typeface="Arial"/>
                </a:rPr>
                <a:t>er</a:t>
              </a:r>
              <a:r>
                <a:rPr b="1" lang="de-CH" sz="1600" spc="-1" strike="noStrike">
                  <a:solidFill>
                    <a:srgbClr val="0066ff"/>
                  </a:solidFill>
                  <a:latin typeface="Arial"/>
                </a:rPr>
                <a:t> dépl.: trav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1332000" y="4083120"/>
            <a:ext cx="2706120" cy="1521720"/>
            <a:chOff x="1332000" y="4083120"/>
            <a:chExt cx="2706120" cy="1521720"/>
          </a:xfrm>
        </p:grpSpPr>
        <p:pic>
          <p:nvPicPr>
            <p:cNvPr id="141" name="Picture 8" descr="18-767344852"/>
            <p:cNvPicPr/>
            <p:nvPr/>
          </p:nvPicPr>
          <p:blipFill>
            <a:blip r:embed="rId3"/>
            <a:stretch/>
          </p:blipFill>
          <p:spPr>
            <a:xfrm>
              <a:off x="2298600" y="4083120"/>
              <a:ext cx="6631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9" descr="80-679512880"/>
            <p:cNvPicPr/>
            <p:nvPr/>
          </p:nvPicPr>
          <p:blipFill>
            <a:blip r:embed="rId4"/>
            <a:stretch/>
          </p:blipFill>
          <p:spPr>
            <a:xfrm>
              <a:off x="1332000" y="4305600"/>
              <a:ext cx="66636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0" descr="trainstation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3374640" y="4154760"/>
              <a:ext cx="66348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AutoShape 11"/>
            <p:cNvSpPr/>
            <p:nvPr/>
          </p:nvSpPr>
          <p:spPr>
            <a:xfrm>
              <a:off x="2131920" y="4746600"/>
              <a:ext cx="1131480" cy="285840"/>
            </a:xfrm>
            <a:prstGeom prst="rightArrow">
              <a:avLst>
                <a:gd name="adj1" fmla="val 50000"/>
                <a:gd name="adj2" fmla="val 989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2"/>
            <p:cNvSpPr/>
            <p:nvPr/>
          </p:nvSpPr>
          <p:spPr>
            <a:xfrm>
              <a:off x="2018880" y="5297760"/>
              <a:ext cx="131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de-CH" sz="1400" spc="-1" strike="noStrike" baseline="30000">
                  <a:solidFill>
                    <a:srgbClr val="000000"/>
                  </a:solidFill>
                  <a:latin typeface="Arial"/>
                </a:rPr>
                <a:t>ère</a:t>
              </a: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 éta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3"/>
          <p:cNvGrpSpPr/>
          <p:nvPr/>
        </p:nvGrpSpPr>
        <p:grpSpPr>
          <a:xfrm>
            <a:off x="4157640" y="4000680"/>
            <a:ext cx="1928880" cy="1559160"/>
            <a:chOff x="4157640" y="4000680"/>
            <a:chExt cx="1928880" cy="1559160"/>
          </a:xfrm>
        </p:grpSpPr>
        <p:pic>
          <p:nvPicPr>
            <p:cNvPr id="147" name="Picture 14" descr="Future"/>
            <p:cNvPicPr/>
            <p:nvPr/>
          </p:nvPicPr>
          <p:blipFill>
            <a:blip r:embed="rId7"/>
            <a:stretch/>
          </p:blipFill>
          <p:spPr>
            <a:xfrm>
              <a:off x="4157640" y="4000680"/>
              <a:ext cx="947880" cy="6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5" descr="trainstation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424480" y="4135320"/>
              <a:ext cx="662040" cy="9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16"/>
            <p:cNvSpPr/>
            <p:nvPr/>
          </p:nvSpPr>
          <p:spPr>
            <a:xfrm>
              <a:off x="4199400" y="5252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de-CH" sz="1400" spc="-1" strike="noStrike" baseline="30000">
                  <a:solidFill>
                    <a:srgbClr val="000000"/>
                  </a:solidFill>
                  <a:latin typeface="Arial"/>
                </a:rPr>
                <a:t>ème</a:t>
              </a: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 éta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17"/>
            <p:cNvSpPr/>
            <p:nvPr/>
          </p:nvSpPr>
          <p:spPr>
            <a:xfrm>
              <a:off x="4162680" y="4757400"/>
              <a:ext cx="1133280" cy="285480"/>
            </a:xfrm>
            <a:prstGeom prst="rightArrow">
              <a:avLst>
                <a:gd name="adj1" fmla="val 50000"/>
                <a:gd name="adj2" fmla="val 99243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18"/>
          <p:cNvGrpSpPr/>
          <p:nvPr/>
        </p:nvGrpSpPr>
        <p:grpSpPr>
          <a:xfrm>
            <a:off x="6263280" y="3548160"/>
            <a:ext cx="2053800" cy="2011680"/>
            <a:chOff x="6263280" y="3548160"/>
            <a:chExt cx="2053800" cy="2011680"/>
          </a:xfrm>
        </p:grpSpPr>
        <p:pic>
          <p:nvPicPr>
            <p:cNvPr id="152" name="Picture 19" descr="16-756454204"/>
            <p:cNvPicPr/>
            <p:nvPr/>
          </p:nvPicPr>
          <p:blipFill>
            <a:blip r:embed="rId10"/>
            <a:stretch/>
          </p:blipFill>
          <p:spPr>
            <a:xfrm>
              <a:off x="7213680" y="3548160"/>
              <a:ext cx="1103400" cy="16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Rectangle 20"/>
            <p:cNvSpPr/>
            <p:nvPr/>
          </p:nvSpPr>
          <p:spPr>
            <a:xfrm>
              <a:off x="6263280" y="5252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fr-CH" sz="1400" spc="-1" strike="noStrike" baseline="30000">
                  <a:solidFill>
                    <a:srgbClr val="000000"/>
                  </a:solidFill>
                  <a:latin typeface="Arial"/>
                </a:rPr>
                <a:t>ème</a:t>
              </a:r>
              <a:r>
                <a:rPr b="1" lang="fr-CH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éta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Picture 21" descr="Image1"/>
            <p:cNvPicPr/>
            <p:nvPr/>
          </p:nvPicPr>
          <p:blipFill>
            <a:blip r:embed="rId11"/>
            <a:stretch/>
          </p:blipFill>
          <p:spPr>
            <a:xfrm>
              <a:off x="6529320" y="3900240"/>
              <a:ext cx="392400" cy="82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AutoShape 22"/>
            <p:cNvSpPr/>
            <p:nvPr/>
          </p:nvSpPr>
          <p:spPr>
            <a:xfrm>
              <a:off x="6267600" y="4733640"/>
              <a:ext cx="1131840" cy="285480"/>
            </a:xfrm>
            <a:prstGeom prst="rightArrow">
              <a:avLst>
                <a:gd name="adj1" fmla="val 50000"/>
                <a:gd name="adj2" fmla="val 9911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Rectangle 23"/>
          <p:cNvSpPr/>
          <p:nvPr/>
        </p:nvSpPr>
        <p:spPr>
          <a:xfrm>
            <a:off x="1295280" y="1197000"/>
            <a:ext cx="7462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obilité journalière: les ét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362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éocod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79280" y="1746360"/>
            <a:ext cx="873612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hoix de l‘itinéra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bern_lausan"/>
          <p:cNvPicPr/>
          <p:nvPr/>
        </p:nvPicPr>
        <p:blipFill>
          <a:blip r:embed="rId1"/>
          <a:stretch/>
        </p:blipFill>
        <p:spPr>
          <a:xfrm>
            <a:off x="2124000" y="1989000"/>
            <a:ext cx="579132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2411280" y="2133720"/>
            <a:ext cx="3097440" cy="93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411280" y="4581360"/>
            <a:ext cx="4464360" cy="151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409840" y="3427560"/>
            <a:ext cx="4248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53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000000"/>
                </a:solidFill>
                <a:latin typeface="Arial"/>
              </a:rPr>
              <a:t>Intégration de l‘analyse des boucles (domicile au domicile) dans le rapport fin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90920" y="2421000"/>
            <a:ext cx="111600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900" spc="-1" strike="noStrike">
                <a:solidFill>
                  <a:srgbClr val="000000"/>
                </a:solidFill>
                <a:latin typeface="Arial"/>
              </a:rPr>
              <a:t>Domici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0"/>
            <a:endCxn id="165" idx="2"/>
          </p:cNvCxnSpPr>
          <p:nvPr/>
        </p:nvCxnSpPr>
        <p:spPr>
          <a:xfrm flipH="1" rot="16200000">
            <a:off x="3871080" y="2599200"/>
            <a:ext cx="358920" cy="2520"/>
          </a:xfrm>
          <a:prstGeom prst="curvedConnector5">
            <a:avLst>
              <a:gd name="adj1" fmla="val -63755"/>
              <a:gd name="adj2" fmla="val 24800000"/>
              <a:gd name="adj3" fmla="val -637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8"/>
          <p:cNvSpPr/>
          <p:nvPr/>
        </p:nvSpPr>
        <p:spPr>
          <a:xfrm>
            <a:off x="2625840" y="3500280"/>
            <a:ext cx="11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omic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4714920" y="350028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ctivité exté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3778200" y="36432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>
            <a:off x="3777840" y="37879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2627280" y="4581360"/>
            <a:ext cx="11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omic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4716360" y="4581360"/>
            <a:ext cx="20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ctivité extér.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3706920" y="5661000"/>
            <a:ext cx="2808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Activité extér. 2, 3, …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3851280" y="4797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6"/>
          <p:cNvSpPr/>
          <p:nvPr/>
        </p:nvSpPr>
        <p:spPr>
          <a:xfrm flipH="1">
            <a:off x="4786200" y="4940280"/>
            <a:ext cx="865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7"/>
          <p:cNvSpPr/>
          <p:nvPr/>
        </p:nvSpPr>
        <p:spPr>
          <a:xfrm flipH="1" flipV="1">
            <a:off x="3490560" y="501300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2482920" y="2708280"/>
            <a:ext cx="792000" cy="358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2 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2482920" y="3860640"/>
            <a:ext cx="792000" cy="358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4 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2482920" y="5732640"/>
            <a:ext cx="792000" cy="358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4 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5632560" y="143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2.5 Questionnaire MRMT 20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119664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Questionnaire MRMT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258920" y="1844640"/>
            <a:ext cx="76341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Reprise des variables-clé 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(intégration dans SHAP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Synergies avec d‘autres enquêtes 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(ex. enquête sur les </a:t>
            </a:r>
            <a:br>
              <a:rPr sz="2100"/>
            </a:b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  voyag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Intégration du Rou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Prise en compte des besoins des partenai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Durée moyenne de l‘interview proche de celle de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Amélioration des ques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119664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000000"/>
                </a:solidFill>
                <a:latin typeface="Arial"/>
              </a:rPr>
              <a:t>Construction modulaire du MRMT 20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332000" y="2562120"/>
            <a:ext cx="7127640" cy="100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332000" y="3643200"/>
            <a:ext cx="1728720" cy="187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132000" y="3643200"/>
            <a:ext cx="1729080" cy="187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932360" y="3643200"/>
            <a:ext cx="1728720" cy="187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6732720" y="3643200"/>
            <a:ext cx="1728720" cy="187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476360" y="2635200"/>
            <a:ext cx="6877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Module de base </a:t>
            </a: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(tout l‘échantill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Questions ménage/personne-cible + mobilité journaliè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1403280" y="3716280"/>
            <a:ext cx="1656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Module compl. 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(30% de l‘échantill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Excurs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3203640" y="3716280"/>
            <a:ext cx="16556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Module compl. 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(30% de l‘échantill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Voyages ave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nuité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5003640" y="3716280"/>
            <a:ext cx="1584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Module compl.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(30% de l‘échantill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Mobilité dou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et profes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6804000" y="3716280"/>
            <a:ext cx="1584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Module compl.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(10% de l‘échantil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Opinion sur l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politique d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transpo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44290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-&gt; Structure inchangé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119664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Questionnaire MRMT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258920" y="1844640"/>
            <a:ext cx="76341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Module de base </a:t>
            </a: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(questions relatives au ménage et à la personne-cible, mobilité journalièr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Sociodémographie (taille du ménage, revenu, </a:t>
            </a:r>
            <a:br>
              <a:rPr sz="2100"/>
            </a:b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  sexe, âge, etc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Equipement des ménages (possession et disponibilité 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véhicules et d‘abonnement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Mobilité journalière (moyen de transport, motifs de</a:t>
            </a:r>
            <a:br>
              <a:rPr sz="2100"/>
            </a:b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  déplacement, etc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71640" y="119664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Questionnaire MRMT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971640" y="1844640"/>
            <a:ext cx="8172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Modules complémentaires 1a et 1b „Excursions“ et </a:t>
            </a:r>
            <a:br>
              <a:rPr sz="2200"/>
            </a:b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„voyages avec nuitées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Excursions (fréquence, destination, moyen de transport, etc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Voyages avec nuité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(fréquence, destinations, moyen de transport, etc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Voyages en av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1640" y="119664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Questionnaire MRMT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971640" y="1844640"/>
            <a:ext cx="8172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Module complémentaire 2 „Mobilité douce et profession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Approfondissement (types de vélos par ex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Questions sur la taille et la masse corporelle (interaction</a:t>
            </a:r>
            <a:br>
              <a:rPr sz="2100"/>
            </a:b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  entre comportement en matière de transport et santé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Relation à la situation professionnel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2.1 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119664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Questionnaire MRMT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971640" y="1844640"/>
            <a:ext cx="8172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Module complémentaire 3 „Opinions sur la politique suisse des transports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Utilisation des recettes et redevanc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Transports routiers (investissements, „bouchons“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Amélioration de l‘attractivité des transports public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920" y="2781000"/>
            <a:ext cx="80661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Diffusion et calendri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usion MRMT 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950760" y="1650960"/>
            <a:ext cx="2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971640" y="2060640"/>
            <a:ext cx="7993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Conférence de presse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y compris dossier d‘information aux média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Rapport final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résultats principaux à l‘échelle nation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Leporello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dépliant de synthè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Publications générales de l‘OFS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portail statistique, annuaire, etc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Exploitations standard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à l‘échelon national et régiona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onnées individuelles nationales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remise uniquement avec contrat de protection des données - CP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onnées individuelles régionales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1 jeu par partenaire / avec CP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alendrier MRMT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7643880" y="5072040"/>
            <a:ext cx="1247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Times New Roman"/>
              </a:rPr>
              <a:t>Déc. 2011</a:t>
            </a:r>
            <a:br>
              <a:rPr sz="1200"/>
            </a:br>
            <a:r>
              <a:rPr b="1" lang="de-CH" sz="16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4500720" y="2786040"/>
            <a:ext cx="1928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Times New Roman"/>
              </a:rPr>
              <a:t>02.01.2010 -31.01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Times New Roman"/>
              </a:rPr>
              <a:t>Enquête princip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571680" y="2000160"/>
            <a:ext cx="1942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Times New Roman"/>
              </a:rPr>
              <a:t>Oct. 2008</a:t>
            </a:r>
            <a:br>
              <a:rPr sz="1400"/>
            </a:br>
            <a:r>
              <a:rPr b="1" lang="de-CH" sz="1600" spc="-1" strike="noStrike">
                <a:solidFill>
                  <a:srgbClr val="000000"/>
                </a:solidFill>
                <a:latin typeface="Times New Roman"/>
              </a:rPr>
              <a:t>Appel offres O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2727000" y="3700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5032080" y="3699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1884240" y="35942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4116240" y="35942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4"/>
          <p:cNvSpPr/>
          <p:nvPr/>
        </p:nvSpPr>
        <p:spPr>
          <a:xfrm>
            <a:off x="6419880" y="35942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6819840" y="3699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Connecteur droit avec flèche 26"/>
          <p:cNvCxnSpPr/>
          <p:nvPr/>
        </p:nvCxnSpPr>
        <p:spPr>
          <a:xfrm>
            <a:off x="856800" y="3714840"/>
            <a:ext cx="80017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Text Box 19"/>
          <p:cNvSpPr/>
          <p:nvPr/>
        </p:nvSpPr>
        <p:spPr>
          <a:xfrm>
            <a:off x="857160" y="371484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lèche vers le bas 29"/>
          <p:cNvSpPr/>
          <p:nvPr/>
        </p:nvSpPr>
        <p:spPr>
          <a:xfrm>
            <a:off x="1285920" y="2643120"/>
            <a:ext cx="214200" cy="10000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1"/>
          <p:cNvSpPr/>
          <p:nvPr/>
        </p:nvSpPr>
        <p:spPr>
          <a:xfrm>
            <a:off x="4143240" y="3429000"/>
            <a:ext cx="2571840" cy="117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2"/>
          <p:cNvSpPr/>
          <p:nvPr/>
        </p:nvSpPr>
        <p:spPr>
          <a:xfrm>
            <a:off x="3000240" y="3429000"/>
            <a:ext cx="490680" cy="133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Flèche vers le bas 33" descr=""/>
          <p:cNvPicPr/>
          <p:nvPr/>
        </p:nvPicPr>
        <p:blipFill>
          <a:blip r:embed="rId1"/>
          <a:stretch/>
        </p:blipFill>
        <p:spPr>
          <a:xfrm>
            <a:off x="2408400" y="3906720"/>
            <a:ext cx="29880" cy="536760"/>
          </a:xfrm>
          <a:prstGeom prst="rect">
            <a:avLst/>
          </a:prstGeom>
          <a:ln w="0">
            <a:noFill/>
          </a:ln>
        </p:spPr>
      </p:pic>
      <p:pic>
        <p:nvPicPr>
          <p:cNvPr id="224" name="Flèche vers le bas 35" descr=""/>
          <p:cNvPicPr/>
          <p:nvPr/>
        </p:nvPicPr>
        <p:blipFill>
          <a:blip r:embed="rId2"/>
          <a:stretch/>
        </p:blipFill>
        <p:spPr>
          <a:xfrm>
            <a:off x="2189160" y="3760920"/>
            <a:ext cx="255600" cy="10429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8"/>
          <p:cNvSpPr/>
          <p:nvPr/>
        </p:nvSpPr>
        <p:spPr>
          <a:xfrm>
            <a:off x="1428840" y="5000760"/>
            <a:ext cx="2286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Times New Roman"/>
              </a:rPr>
              <a:t>Av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Times New Roman"/>
              </a:rPr>
              <a:t>Début des travaux à l‘institut de sond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2786040" y="278604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Times New Roman"/>
              </a:rPr>
              <a:t>Juillet-Août.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Times New Roman"/>
              </a:rPr>
              <a:t>Pré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8572680" y="3571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3"/>
          <p:cNvSpPr/>
          <p:nvPr/>
        </p:nvSpPr>
        <p:spPr>
          <a:xfrm>
            <a:off x="6786720" y="4000680"/>
            <a:ext cx="1439640" cy="11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6572160" y="4143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Times New Roman"/>
              </a:rPr>
              <a:t>Dès fev.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Times New Roman"/>
              </a:rPr>
              <a:t>Calcul des résult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lèche vers le bas 47"/>
          <p:cNvSpPr/>
          <p:nvPr/>
        </p:nvSpPr>
        <p:spPr>
          <a:xfrm>
            <a:off x="8072280" y="2643120"/>
            <a:ext cx="214560" cy="1000080"/>
          </a:xfrm>
          <a:prstGeom prst="downArrow">
            <a:avLst>
              <a:gd name="adj1" fmla="val 50000"/>
              <a:gd name="adj2" fmla="val 49934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Flèche vers le bas 48" descr=""/>
          <p:cNvPicPr/>
          <p:nvPr/>
        </p:nvPicPr>
        <p:blipFill>
          <a:blip r:embed="rId3"/>
          <a:stretch/>
        </p:blipFill>
        <p:spPr>
          <a:xfrm>
            <a:off x="8332920" y="3760920"/>
            <a:ext cx="257040" cy="1042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6715080" y="1785960"/>
            <a:ext cx="2428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Times New Roman"/>
              </a:rPr>
              <a:t>Dès nov. 2011</a:t>
            </a:r>
            <a:br>
              <a:rPr sz="1200"/>
            </a:br>
            <a:r>
              <a:rPr b="1" lang="de-CH" sz="1600" spc="-1" strike="noStrike">
                <a:solidFill>
                  <a:srgbClr val="000000"/>
                </a:solidFill>
                <a:latin typeface="Times New Roman"/>
              </a:rPr>
              <a:t>Distribution des données </a:t>
            </a:r>
            <a:r>
              <a:rPr b="1" lang="de-CH" sz="1400" spc="-1" strike="noStrike">
                <a:solidFill>
                  <a:srgbClr val="000000"/>
                </a:solidFill>
                <a:latin typeface="Times New Roman"/>
              </a:rPr>
              <a:t>(Partenaires régionau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2.7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7840" indent="-176400">
              <a:lnSpc>
                <a:spcPts val="33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Questions de compréhen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33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Points de discus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3399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1196640"/>
            <a:ext cx="7462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000000"/>
                </a:solidFill>
                <a:latin typeface="Arial"/>
              </a:rPr>
              <a:t>Objectifs de la présentation MRMT 20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915920"/>
            <a:ext cx="74628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Information sur les buts du microrecensement</a:t>
            </a:r>
            <a:br>
              <a:rPr sz="2100"/>
            </a:b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   mobilité et transports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Information sur l‘organisation du proj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Information sur les utilisations du microrecens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Information sur l‘état actuel du proj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Clarification des possibilités et limites des densifications région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Echange d‘éxpériences et ques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Information sur le calendrier et la suite des opér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1196640"/>
            <a:ext cx="746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MRMT 2005: un franc succè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2000" y="2204640"/>
            <a:ext cx="78120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Large coopération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(ARE, offices fédéraux, partenaires régionau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Qualité des données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(taille de l‘échantillon, géocodes, mobil. annuel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Très bons échos de la conférence de presse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(15.05.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Nombreuses demandes / distributions des données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(env.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nalyses d‘approfondissement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(ARE, OFROU, OFSPO, SVI 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Partenaires régionaux du MRMT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Karte_Verdichter2"/>
          <p:cNvPicPr/>
          <p:nvPr/>
        </p:nvPicPr>
        <p:blipFill>
          <a:blip r:embed="rId1"/>
          <a:srcRect l="200" t="2948" r="400" b="590"/>
          <a:stretch/>
        </p:blipFill>
        <p:spPr>
          <a:xfrm>
            <a:off x="826920" y="1628640"/>
            <a:ext cx="6553440" cy="4319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7342200" y="1773360"/>
            <a:ext cx="1801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Densific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Ct. Genè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Ct. Va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Ct. Neuchâ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Agglo. Fribo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Ct. Fribo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Beren – RV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Burgdo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Ct. Lucer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Ct. Schw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Ct. Zu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Ville Schaff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Ct. Schaff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Ct. Thurg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IHG-Région 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Ct. Gri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- Agglo. Lug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MRMT 2010: Objectifs principau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988640"/>
            <a:ext cx="784872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Récolte de données de base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rvant aux décisions politiques 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  sur l‘aménagement du territoire et le transport de personnes.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escription des transports: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nformations sur le comportement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  de la population résidante en matière de transport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  (moyens de transport, motifs de déplacement, distance, duré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Représentation de l‘évolution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s transports: déceler tôt 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  les modifications de  comportement (séries temporel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781000"/>
            <a:ext cx="8459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ontenu et utilisation du MRM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82440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istorique du MRM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00000" y="1844640"/>
          <a:ext cx="8064720" cy="4005360"/>
        </p:xfrm>
        <a:graphic>
          <a:graphicData uri="http://schemas.openxmlformats.org/drawingml/2006/table">
            <a:tbl>
              <a:tblPr/>
              <a:tblGrid>
                <a:gridCol w="576360"/>
                <a:gridCol w="2017800"/>
                <a:gridCol w="1438200"/>
                <a:gridCol w="1727280"/>
                <a:gridCol w="2305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14 ménages, person-nes de plus de 6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jour de réfé-rence, autom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binaison d'enquête écrite et or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tude du budget-temps et relevé de toutes les activités quotidien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0 ménages, person-nes dès 14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jours de réfé-rence, autom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13 ménages, person-nes dès 10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jour de référence, printem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quête écr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ption des déplacements sur le modèle du relevé allemand KON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 472 ménages, per-sonnes dès 10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'570 mén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'020 person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ès 6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jour de réfé-rence, réparti sur toute l'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chnique des entretiens téléphoniques assistés par ordinateur (CATI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levé sur la base du concept des éta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’918 mén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’407 person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ès 6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1950 mén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3390 person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ès 6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pt des étapes inchangé, mais avec géocodage pendant l'inter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9:41:33Z</dcterms:created>
  <dc:creator>Marc Gindraux</dc:creator>
  <dc:description/>
  <dc:language>en-US</dc:language>
  <cp:lastModifiedBy>Sonia Donzé</cp:lastModifiedBy>
  <cp:lastPrinted>2003-11-14T16:51:38Z</cp:lastPrinted>
  <dcterms:modified xsi:type="dcterms:W3CDTF">2009-10-05T07:37:26Z</dcterms:modified>
  <cp:revision>209</cp:revision>
  <dc:subject/>
  <dc:title>Titel der Präsentation wenn nötig mit Untertitel nicht fett geschrieben</dc:title>
</cp:coreProperties>
</file>