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9.wmf" ContentType="image/x-wmf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3880" y="733320"/>
            <a:ext cx="4884480" cy="366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87040" y="4643280"/>
            <a:ext cx="48942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284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778200" y="9284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3532ECC7-F5BE-4EAC-AA66-CF0F20AEED17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90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69789200-D9B6-4643-94E5-BDC1A1DF88CF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3880" y="733320"/>
            <a:ext cx="4884480" cy="366408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887040" y="4643280"/>
            <a:ext cx="489420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90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D6BDD18-C294-4367-8AD0-7A63CD6E9C50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3880" y="733320"/>
            <a:ext cx="4884480" cy="366408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887040" y="4643280"/>
            <a:ext cx="489420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90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B324EA7E-9430-4EED-9E79-2E7868333968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0640" y="73188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87040" y="4641840"/>
            <a:ext cx="489420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5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2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Text Box 45"/>
          <p:cNvSpPr/>
          <p:nvPr/>
        </p:nvSpPr>
        <p:spPr>
          <a:xfrm>
            <a:off x="4643280" y="189000"/>
            <a:ext cx="358164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Eidgenössisches Departement für Umwelt, Verkehr, Energie und Kommunikation UVEK</a:t>
            </a:r>
            <a:br>
              <a:rPr sz="800"/>
            </a:b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Bundesamt für Raumentwicklung ARE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71520" y="6168960"/>
            <a:ext cx="7475760" cy="304920"/>
          </a:xfrm>
          <a:prstGeom prst="octagon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r" pos="7342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ormationen zur Aufstockung der Haushalts- und Personenerhebungen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fld id="{06859C32-06B1-4205-B523-724BFE69259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r" pos="7342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. September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643280" y="189000"/>
            <a:ext cx="358164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Eidgenössisches Departement für Umwelt, Verkehr, Energie und Kommunikation UVEK</a:t>
            </a:r>
            <a:br>
              <a:rPr sz="800"/>
            </a:b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Bundesamt für Raumentwicklung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7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images.google.ch/imgres?imgurl=www.sa-cnet.com/clipart/south_africa/forest.jpg&amp;imgrefurl=http://www.sa-cnet.com/south_africa/rainbow_nation/9_mpumalanga.html&amp;h=153&amp;w=213&amp;prev=/images%3Fq%3Dclipart%2Bforest%26svnum%3D10%26hl%3Dfr%26lr%3D%26ie%3DUTF-8%26oe%3DUTF-8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hyperlink" Target="http://www.himinnesota.org/assets/clipart/trainstation.gif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hyperlink" Target="http://www.himinnesota.org/assets/clipart/trainstation.gif" TargetMode="External"/><Relationship Id="rId9" Type="http://schemas.openxmlformats.org/officeDocument/2006/relationships/image" Target="../media/image12.png"/><Relationship Id="rId10" Type="http://schemas.openxmlformats.org/officeDocument/2006/relationships/image" Target="../media/image8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bfs.admin.ch/bfs/portal/de/index/news/00/03/01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1557360"/>
            <a:ext cx="7429320" cy="2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Arial"/>
              </a:rPr>
              <a:t>Mikrozensus Mobilität und Verkehr 2010</a:t>
            </a:r>
            <a:br>
              <a:rPr sz="4800"/>
            </a:br>
            <a:br>
              <a:rPr sz="4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ienvenue  -  Willkommen  –   Benvenuti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4581000"/>
            <a:ext cx="74296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eter Glauser, B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arc Gindraux / Roger Evéquoz B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rt Infanger / Davide Marconi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Informationsveranstaltung vom 16.09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Wichtigste Inhalte des MZM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50760" y="1650960"/>
            <a:ext cx="2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826920" y="1773360"/>
            <a:ext cx="8064720" cy="4103640"/>
            <a:chOff x="826920" y="1773360"/>
            <a:chExt cx="8064720" cy="4103640"/>
          </a:xfrm>
        </p:grpSpPr>
        <p:sp>
          <p:nvSpPr>
            <p:cNvPr id="110" name="Rectangle 5"/>
            <p:cNvSpPr/>
            <p:nvPr/>
          </p:nvSpPr>
          <p:spPr>
            <a:xfrm>
              <a:off x="2124000" y="1773360"/>
              <a:ext cx="5400720" cy="1512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99960" indent="-399960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Verkehrsinformatio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Besitz und Verfügbarkeit von Fahrzeugen und Abonnemen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Anzahl, Distanz und Zweck der pro Tag zurückgelegten We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Benutzte Verkehrsmit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Tagesreisen und Reisen mit Übernacht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Einstellungen zur Verkehrspolitik der Schwei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826920" y="4149720"/>
              <a:ext cx="2664000" cy="1727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99960" indent="-399960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Sozio-ökonomische Kriterien der Mobi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Haushalte: Grösse, Wohnverhältnisse, Einkommen, Erwerbssitu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Personen: Geschlecht, Alter, Bildung, Berufstätigk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3635280" y="4149720"/>
              <a:ext cx="2305080" cy="1727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99960" indent="-399960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Zeitliche Struktur des Verkehrsaufkomm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Tagesz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Wochent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Sai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Jah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6227640" y="4149720"/>
              <a:ext cx="2664000" cy="1727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99960" indent="-399960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Räumliche Verteilung des Verkeh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Schwei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Landeste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Grossregio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Stadt/Agglomeration/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9960" indent="-399960">
                <a:lnSpc>
                  <a:spcPts val="18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Aus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4643280" y="3284640"/>
              <a:ext cx="144720" cy="865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4211640" y="3284640"/>
              <a:ext cx="144360" cy="576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5076720" y="3284640"/>
              <a:ext cx="144720" cy="576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2050920" y="3716280"/>
              <a:ext cx="144720" cy="433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7380360" y="3716280"/>
              <a:ext cx="144360" cy="433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4"/>
            <p:cNvSpPr/>
            <p:nvPr/>
          </p:nvSpPr>
          <p:spPr>
            <a:xfrm>
              <a:off x="2050920" y="3716280"/>
              <a:ext cx="2305080" cy="144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5"/>
            <p:cNvSpPr/>
            <p:nvPr/>
          </p:nvSpPr>
          <p:spPr>
            <a:xfrm>
              <a:off x="5076720" y="3716280"/>
              <a:ext cx="2305080" cy="144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1197000"/>
            <a:ext cx="7715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Ergebnisse 2005: 19'000 Kilometer pro Jahr,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57% im motorisierten Individualverkeh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3" descr=""/>
          <p:cNvPicPr/>
          <p:nvPr/>
        </p:nvPicPr>
        <p:blipFill>
          <a:blip r:embed="rId1"/>
          <a:srcRect l="0" t="2345" r="0" b="0"/>
          <a:stretch/>
        </p:blipFill>
        <p:spPr>
          <a:xfrm>
            <a:off x="684360" y="2089080"/>
            <a:ext cx="80388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Weitere Resultate MZMV (Beispiel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7462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Nutzen des MZM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50760" y="1650960"/>
            <a:ext cx="2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971640" y="170028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Verhaltensänderungen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Zeitreihen und Kohorteneffek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Verkehrszukunft Schweiz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Verkehrsprognosen, Verkehrsperspektiven und Szenarie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Raum- und Verkehrsplanung auf nationaler und regionaler Ebene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Grundlagen für die Sach- und Richtplanu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Verkehrskonzepte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Indikatoren Benchmark Agglomerationen und ländlicher Ra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Infrastrukturplanung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Infrastrukturfonds, Agglomerationsprogramme, zukünftige Entwicklung der Bahngrossprojekte, Funktionalität Nationalstrassennet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Verkehrsmodellierung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: Input für nationale und regionale Personenverkehrsmodel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Modal Split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Verkehrsteilung motorisierter Individualverkehr/öffentlicher Verkehr/Langsamverkehr nach Wegzwecken (Pendler, Einkauf, Geschäft, Freizei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Verkehrsgrundlagen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zur Strategie Freizeitverkehr und zum Langsamverke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3 Neue Rahmenbeding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ZMV 2010: Neue Rahmenbeding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2010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5247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ZMV 2010: Projektorgani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6163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803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4 Methodik und Neuigkeiten</a:t>
            </a:r>
            <a:br>
              <a:rPr sz="3600"/>
            </a:b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     des MZMV 20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604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ZMV 2010: 40‘000 Personen, 31 Agglomera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612144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6-756454204"/>
          <p:cNvPicPr/>
          <p:nvPr/>
        </p:nvPicPr>
        <p:blipFill>
          <a:blip r:embed="rId1"/>
          <a:stretch/>
        </p:blipFill>
        <p:spPr>
          <a:xfrm>
            <a:off x="7020000" y="3141720"/>
            <a:ext cx="1309680" cy="1809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80-679512880"/>
          <p:cNvPicPr/>
          <p:nvPr/>
        </p:nvPicPr>
        <p:blipFill>
          <a:blip r:embed="rId2"/>
          <a:stretch/>
        </p:blipFill>
        <p:spPr>
          <a:xfrm>
            <a:off x="4140360" y="2060640"/>
            <a:ext cx="852480" cy="8827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 rot="12271800">
            <a:off x="5062680" y="3122280"/>
            <a:ext cx="2233440" cy="411120"/>
          </a:xfrm>
          <a:prstGeom prst="leftArrow">
            <a:avLst>
              <a:gd name="adj1" fmla="val 50000"/>
              <a:gd name="adj2" fmla="val 135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587920" y="21718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66ff"/>
                </a:solidFill>
                <a:latin typeface="Arial"/>
              </a:rPr>
              <a:t>1. </a:t>
            </a:r>
            <a:r>
              <a:rPr b="1" lang="de-CH" sz="1600" spc="-1" strike="noStrike">
                <a:solidFill>
                  <a:srgbClr val="0066ff"/>
                </a:solidFill>
                <a:latin typeface="Arial"/>
              </a:rPr>
              <a:t>Weg: 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for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4724280"/>
            <a:ext cx="1160640" cy="11509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7"/>
          <p:cNvSpPr/>
          <p:nvPr/>
        </p:nvSpPr>
        <p:spPr>
          <a:xfrm rot="21120600">
            <a:off x="3490920" y="4777920"/>
            <a:ext cx="3565440" cy="379440"/>
          </a:xfrm>
          <a:prstGeom prst="leftArrow">
            <a:avLst>
              <a:gd name="adj1" fmla="val 50000"/>
              <a:gd name="adj2" fmla="val 2349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788000" y="5300640"/>
            <a:ext cx="22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2. Weg: Freizeit Grillab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"/>
          <p:cNvSpPr/>
          <p:nvPr/>
        </p:nvSpPr>
        <p:spPr>
          <a:xfrm rot="7705800">
            <a:off x="2278080" y="3541680"/>
            <a:ext cx="2152800" cy="295200"/>
          </a:xfrm>
          <a:prstGeom prst="leftArrow">
            <a:avLst>
              <a:gd name="adj1" fmla="val 50000"/>
              <a:gd name="adj2" fmla="val 1823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1258920" y="328464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Letzter Weg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Rückfahrt nach Ha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295280" y="1197000"/>
            <a:ext cx="7462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tichtagsmobilität: Wegekonz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Inhalt der Vorstell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15920"/>
            <a:ext cx="74628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Empfang und Begrüss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Mikrozensus Mobilität und Verkehr (MZMV 201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Inhalte und Nutzen des MZ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Neue Rahmenbedingungen MZMV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Methodik und Neuigkeiten des MZMV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ragenk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iffusion und Zeit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Genauigkeit und Verdichtungsmöglichkei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Weiteres Vorge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Zusammenfassung und Schlu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6-756454204"/>
          <p:cNvPicPr/>
          <p:nvPr/>
        </p:nvPicPr>
        <p:blipFill>
          <a:blip r:embed="rId1"/>
          <a:stretch/>
        </p:blipFill>
        <p:spPr>
          <a:xfrm>
            <a:off x="7203960" y="1878120"/>
            <a:ext cx="1111320" cy="16812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3"/>
          <p:cNvGrpSpPr/>
          <p:nvPr/>
        </p:nvGrpSpPr>
        <p:grpSpPr>
          <a:xfrm>
            <a:off x="1332000" y="2492280"/>
            <a:ext cx="6102360" cy="912600"/>
            <a:chOff x="1332000" y="2492280"/>
            <a:chExt cx="6102360" cy="912600"/>
          </a:xfrm>
        </p:grpSpPr>
        <p:pic>
          <p:nvPicPr>
            <p:cNvPr id="148" name="Picture 4" descr="80-679512880"/>
            <p:cNvPicPr/>
            <p:nvPr/>
          </p:nvPicPr>
          <p:blipFill>
            <a:blip r:embed="rId2"/>
            <a:stretch/>
          </p:blipFill>
          <p:spPr>
            <a:xfrm>
              <a:off x="1332000" y="2643120"/>
              <a:ext cx="6714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AutoShape 5"/>
            <p:cNvSpPr/>
            <p:nvPr/>
          </p:nvSpPr>
          <p:spPr>
            <a:xfrm>
              <a:off x="2132280" y="2947680"/>
              <a:ext cx="5302080" cy="327240"/>
            </a:xfrm>
            <a:prstGeom prst="rightArrow">
              <a:avLst>
                <a:gd name="adj1" fmla="val 50000"/>
                <a:gd name="adj2" fmla="val 405061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3084480" y="2492280"/>
              <a:ext cx="19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66ff"/>
                  </a:solidFill>
                  <a:latin typeface="Arial"/>
                </a:rPr>
                <a:t>1. Weg: Arbe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7"/>
          <p:cNvGrpSpPr/>
          <p:nvPr/>
        </p:nvGrpSpPr>
        <p:grpSpPr>
          <a:xfrm>
            <a:off x="1332000" y="4083120"/>
            <a:ext cx="2706120" cy="1521720"/>
            <a:chOff x="1332000" y="4083120"/>
            <a:chExt cx="2706120" cy="1521720"/>
          </a:xfrm>
        </p:grpSpPr>
        <p:pic>
          <p:nvPicPr>
            <p:cNvPr id="152" name="Picture 8" descr="18-767344852"/>
            <p:cNvPicPr/>
            <p:nvPr/>
          </p:nvPicPr>
          <p:blipFill>
            <a:blip r:embed="rId3"/>
            <a:stretch/>
          </p:blipFill>
          <p:spPr>
            <a:xfrm>
              <a:off x="2298600" y="4083120"/>
              <a:ext cx="6631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9" descr="80-679512880"/>
            <p:cNvPicPr/>
            <p:nvPr/>
          </p:nvPicPr>
          <p:blipFill>
            <a:blip r:embed="rId4"/>
            <a:stretch/>
          </p:blipFill>
          <p:spPr>
            <a:xfrm>
              <a:off x="1332000" y="4305600"/>
              <a:ext cx="66636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0" descr="trainstation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374640" y="4154760"/>
              <a:ext cx="66348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AutoShape 11"/>
            <p:cNvSpPr/>
            <p:nvPr/>
          </p:nvSpPr>
          <p:spPr>
            <a:xfrm>
              <a:off x="2131920" y="4746600"/>
              <a:ext cx="1131480" cy="285840"/>
            </a:xfrm>
            <a:prstGeom prst="rightArrow">
              <a:avLst>
                <a:gd name="adj1" fmla="val 50000"/>
                <a:gd name="adj2" fmla="val 989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2018880" y="5297760"/>
              <a:ext cx="131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1. Eta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13"/>
          <p:cNvGrpSpPr/>
          <p:nvPr/>
        </p:nvGrpSpPr>
        <p:grpSpPr>
          <a:xfrm>
            <a:off x="4157640" y="4000680"/>
            <a:ext cx="1928880" cy="1559160"/>
            <a:chOff x="4157640" y="4000680"/>
            <a:chExt cx="1928880" cy="1559160"/>
          </a:xfrm>
        </p:grpSpPr>
        <p:pic>
          <p:nvPicPr>
            <p:cNvPr id="158" name="Picture 14" descr="Future"/>
            <p:cNvPicPr/>
            <p:nvPr/>
          </p:nvPicPr>
          <p:blipFill>
            <a:blip r:embed="rId7"/>
            <a:stretch/>
          </p:blipFill>
          <p:spPr>
            <a:xfrm>
              <a:off x="4157640" y="4000680"/>
              <a:ext cx="947880" cy="6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5" descr="trainstation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424480" y="4135320"/>
              <a:ext cx="662040" cy="9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16"/>
            <p:cNvSpPr/>
            <p:nvPr/>
          </p:nvSpPr>
          <p:spPr>
            <a:xfrm>
              <a:off x="4188960" y="525276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. Eta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4162680" y="4757400"/>
              <a:ext cx="1133280" cy="285480"/>
            </a:xfrm>
            <a:prstGeom prst="rightArrow">
              <a:avLst>
                <a:gd name="adj1" fmla="val 50000"/>
                <a:gd name="adj2" fmla="val 9924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8"/>
          <p:cNvGrpSpPr/>
          <p:nvPr/>
        </p:nvGrpSpPr>
        <p:grpSpPr>
          <a:xfrm>
            <a:off x="6252480" y="3548160"/>
            <a:ext cx="2064600" cy="2011680"/>
            <a:chOff x="6252480" y="3548160"/>
            <a:chExt cx="2064600" cy="2011680"/>
          </a:xfrm>
        </p:grpSpPr>
        <p:pic>
          <p:nvPicPr>
            <p:cNvPr id="163" name="Picture 19" descr="16-756454204"/>
            <p:cNvPicPr/>
            <p:nvPr/>
          </p:nvPicPr>
          <p:blipFill>
            <a:blip r:embed="rId10"/>
            <a:stretch/>
          </p:blipFill>
          <p:spPr>
            <a:xfrm>
              <a:off x="7213680" y="3548160"/>
              <a:ext cx="1103400" cy="16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20"/>
            <p:cNvSpPr/>
            <p:nvPr/>
          </p:nvSpPr>
          <p:spPr>
            <a:xfrm>
              <a:off x="6252480" y="5252760"/>
              <a:ext cx="97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Eta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Picture 21" descr="Image1"/>
            <p:cNvPicPr/>
            <p:nvPr/>
          </p:nvPicPr>
          <p:blipFill>
            <a:blip r:embed="rId11"/>
            <a:stretch/>
          </p:blipFill>
          <p:spPr>
            <a:xfrm>
              <a:off x="6529320" y="3900240"/>
              <a:ext cx="392400" cy="82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AutoShape 22"/>
            <p:cNvSpPr/>
            <p:nvPr/>
          </p:nvSpPr>
          <p:spPr>
            <a:xfrm>
              <a:off x="6267600" y="4733640"/>
              <a:ext cx="1131840" cy="285480"/>
            </a:xfrm>
            <a:prstGeom prst="rightArrow">
              <a:avLst>
                <a:gd name="adj1" fmla="val 50000"/>
                <a:gd name="adj2" fmla="val 9911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23"/>
          <p:cNvSpPr/>
          <p:nvPr/>
        </p:nvSpPr>
        <p:spPr>
          <a:xfrm>
            <a:off x="1295280" y="1197000"/>
            <a:ext cx="7462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tichtagsmobilität: Etappenkonz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62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okodier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79280" y="1746360"/>
            <a:ext cx="873612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Erfassung der Routenwah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bern_lausan"/>
          <p:cNvPicPr/>
          <p:nvPr/>
        </p:nvPicPr>
        <p:blipFill>
          <a:blip r:embed="rId1"/>
          <a:stretch/>
        </p:blipFill>
        <p:spPr>
          <a:xfrm>
            <a:off x="2130480" y="2133720"/>
            <a:ext cx="579132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411280" y="2133720"/>
            <a:ext cx="3097440" cy="93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2411280" y="4581360"/>
            <a:ext cx="4464360" cy="151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409840" y="3427560"/>
            <a:ext cx="42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000000"/>
                </a:solidFill>
                <a:latin typeface="Arial"/>
              </a:rPr>
              <a:t>Auswertungen zu den Ausgängen (Wegketten) im Schlussbericht aufnehm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90920" y="2421000"/>
            <a:ext cx="111600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Wohno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7"/>
          <p:cNvCxnSpPr>
            <a:stCxn id="176" idx="0"/>
            <a:endCxn id="176" idx="2"/>
          </p:cNvCxnSpPr>
          <p:nvPr/>
        </p:nvCxnSpPr>
        <p:spPr>
          <a:xfrm flipH="1" rot="16200000">
            <a:off x="3871080" y="2599200"/>
            <a:ext cx="358920" cy="2520"/>
          </a:xfrm>
          <a:prstGeom prst="curvedConnector5">
            <a:avLst>
              <a:gd name="adj1" fmla="val -63755"/>
              <a:gd name="adj2" fmla="val 24800000"/>
              <a:gd name="adj3" fmla="val -637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8"/>
          <p:cNvSpPr/>
          <p:nvPr/>
        </p:nvSpPr>
        <p:spPr>
          <a:xfrm>
            <a:off x="2625840" y="3500280"/>
            <a:ext cx="11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Wohno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4714920" y="350028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ussenaktivitä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3778200" y="3643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3777840" y="37879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2627280" y="4581360"/>
            <a:ext cx="11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Wohno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4716360" y="4581360"/>
            <a:ext cx="20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ussenaktivität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3706920" y="5661000"/>
            <a:ext cx="280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ussenaktivität 2, 3, 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3851280" y="4797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6"/>
          <p:cNvSpPr/>
          <p:nvPr/>
        </p:nvSpPr>
        <p:spPr>
          <a:xfrm flipH="1">
            <a:off x="4786200" y="4940280"/>
            <a:ext cx="865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7"/>
          <p:cNvSpPr/>
          <p:nvPr/>
        </p:nvSpPr>
        <p:spPr>
          <a:xfrm flipH="1" flipV="1">
            <a:off x="3490560" y="501300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2482920" y="2708280"/>
            <a:ext cx="792000" cy="358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12 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2482920" y="3860640"/>
            <a:ext cx="792000" cy="358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64 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2482920" y="5732640"/>
            <a:ext cx="792000" cy="358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24 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5632560" y="143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5 Fragenkatalog MZMV 20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ragenkatalog MZMV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258920" y="1844640"/>
            <a:ext cx="7634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Aufnahme Schlüsselmerkmale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(Integration in SHAP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Synergien mit anderen Erhebungen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(z.B. Reiseverhalten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tegration Ro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Bedürfnisse Partner integrie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Durchschnittliche Interviewdauer ähnlich wie MZV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Verbesserung der Fragenqualitä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ufbau MZMV 2010 in Mo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332000" y="2562120"/>
            <a:ext cx="7127640" cy="100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332000" y="3643200"/>
            <a:ext cx="1728720" cy="187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132000" y="3643200"/>
            <a:ext cx="1729080" cy="187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932360" y="3643200"/>
            <a:ext cx="1728720" cy="187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6732720" y="3643200"/>
            <a:ext cx="1728720" cy="187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1476360" y="2635200"/>
            <a:ext cx="6877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Basismodul </a:t>
            </a: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(gesamte Stichprob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Haushalts-/Zielpersonenbefragung + Stichtagsmobilitä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1403280" y="3716280"/>
            <a:ext cx="1656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Zusatzmodul 1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(30% der Stichpr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Tagesreisen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3203640" y="3716280"/>
            <a:ext cx="16556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Zusatzmodul 1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(30% der Stichpr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Reisen m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Übernacht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5003640" y="3716280"/>
            <a:ext cx="1584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Zusatzmodul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(30% der Stichpr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Langsam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verkehr  u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Beru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6804000" y="3716280"/>
            <a:ext cx="1584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Zusatzmodul 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(10% der Stichpr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Verkehrspoli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Einstellun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44290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&gt; unveränderte Strukt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ragenkatalog MZMV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258920" y="1844640"/>
            <a:ext cx="7634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Basismod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(Haushalts-/Zielpersonenbefragung, Stichtagsmobilitä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Soziodemografie (Haushaltsgrösse, -einkommen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Geschlecht, Alter etc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Mobilitätswerkzeuge (Besitz und Verfügbarkeit v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Fahrzeugen und Abonnementen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Stichtagsmobilität (Verkehrsmittel, Verkehrszweck etc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ragenkatalog MZMV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971640" y="1844640"/>
            <a:ext cx="8172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Zusatzmodule 1a und 1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(Tagesreisen, Reisen mit Übernachtung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Tagesreisen (Häufigkeit, Ziele, Verkehrsmittel etc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Reisen mit Übernachtungen (Häufigkeit, Ziele, </a:t>
            </a:r>
            <a:br>
              <a:rPr sz="2100"/>
            </a:b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 Verkehrsmittel etc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Flugreis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ragenkatalog MZMV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971640" y="1844640"/>
            <a:ext cx="8172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Zusatzmodul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(Langsamverkehr und Beruf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Vertiefung Langsamverkehrs (z.B. Velotypen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Fragen zu Körpergrösse und –gewicht (Wechselwirkung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Verkehrsverhalten und Gesundheit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Vertiefung der beruflichen Situ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1 Einleit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ragenkatalog MZMV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971640" y="1844640"/>
            <a:ext cx="8172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Zusatzmodul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(Verkehrspolitische Einstellung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Gebühren und Einnahmeverwendu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Strassenverkehr (Investitionen, Sta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Attraktivitätsverbesserung des öffentlichen Verkeh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80661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Diffusion und Zeit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iffusion MZMV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950760" y="1650960"/>
            <a:ext cx="2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971640" y="2060640"/>
            <a:ext cx="7993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Medienkonferenz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inkl. Pressemitteilung, Faktenblat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chlussbericht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Hauptergebnisse Schwei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Leporello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Faltenblat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Allgemeine BFS-Publikation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Internetportal, BFS-Jahrbuch u.a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tandartauswertung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national und regiona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Nationaler Datensatz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Abgabe nur mit DS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Regionaler Datensatz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1 Satz pro Verdichter / mit DS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Zeitplan MZMV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643880" y="5072040"/>
            <a:ext cx="1247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Dez. 2011</a:t>
            </a:r>
            <a:br>
              <a:rPr sz="1200"/>
            </a:b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Publik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4214880" y="278604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02.01.2010 -31.01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Haupterheb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571680" y="2000160"/>
            <a:ext cx="1942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Okt. 2008</a:t>
            </a:r>
            <a:br>
              <a:rPr sz="1400"/>
            </a:b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WTO-Ausschreib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2727000" y="3700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032080" y="3699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188424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>
            <a:off x="411624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641988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5"/>
          <p:cNvSpPr/>
          <p:nvPr/>
        </p:nvSpPr>
        <p:spPr>
          <a:xfrm>
            <a:off x="6819840" y="3699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Connecteur droit avec flèche 26"/>
          <p:cNvCxnSpPr/>
          <p:nvPr/>
        </p:nvCxnSpPr>
        <p:spPr>
          <a:xfrm>
            <a:off x="856800" y="3714840"/>
            <a:ext cx="8001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 Box 19"/>
          <p:cNvSpPr/>
          <p:nvPr/>
        </p:nvSpPr>
        <p:spPr>
          <a:xfrm>
            <a:off x="857160" y="371484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lèche vers le bas 29"/>
          <p:cNvSpPr/>
          <p:nvPr/>
        </p:nvSpPr>
        <p:spPr>
          <a:xfrm>
            <a:off x="1285920" y="2643120"/>
            <a:ext cx="214200" cy="10000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1"/>
          <p:cNvSpPr/>
          <p:nvPr/>
        </p:nvSpPr>
        <p:spPr>
          <a:xfrm>
            <a:off x="4143240" y="3429000"/>
            <a:ext cx="2571840" cy="117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2"/>
          <p:cNvSpPr/>
          <p:nvPr/>
        </p:nvSpPr>
        <p:spPr>
          <a:xfrm>
            <a:off x="3000240" y="3429000"/>
            <a:ext cx="490680" cy="133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Flèche vers le bas 33" descr=""/>
          <p:cNvPicPr/>
          <p:nvPr/>
        </p:nvPicPr>
        <p:blipFill>
          <a:blip r:embed="rId1"/>
          <a:stretch/>
        </p:blipFill>
        <p:spPr>
          <a:xfrm>
            <a:off x="2408400" y="3906720"/>
            <a:ext cx="29880" cy="536760"/>
          </a:xfrm>
          <a:prstGeom prst="rect">
            <a:avLst/>
          </a:prstGeom>
          <a:ln w="0">
            <a:noFill/>
          </a:ln>
        </p:spPr>
      </p:pic>
      <p:pic>
        <p:nvPicPr>
          <p:cNvPr id="235" name="Flèche vers le bas 35" descr=""/>
          <p:cNvPicPr/>
          <p:nvPr/>
        </p:nvPicPr>
        <p:blipFill>
          <a:blip r:embed="rId2"/>
          <a:stretch/>
        </p:blipFill>
        <p:spPr>
          <a:xfrm>
            <a:off x="2189160" y="3760920"/>
            <a:ext cx="255600" cy="10429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8"/>
          <p:cNvSpPr/>
          <p:nvPr/>
        </p:nvSpPr>
        <p:spPr>
          <a:xfrm>
            <a:off x="1428840" y="5000760"/>
            <a:ext cx="2286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Begin der Arbeit be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Befragungsinstit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786040" y="278604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Juli-Aug.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4"/>
          <p:cNvSpPr/>
          <p:nvPr/>
        </p:nvSpPr>
        <p:spPr>
          <a:xfrm>
            <a:off x="8572680" y="3571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3"/>
          <p:cNvSpPr/>
          <p:nvPr/>
        </p:nvSpPr>
        <p:spPr>
          <a:xfrm>
            <a:off x="6786720" y="4000680"/>
            <a:ext cx="1439640" cy="11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572160" y="4143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Ab Feb.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Auswertung der Ergebn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lèche vers le bas 47"/>
          <p:cNvSpPr/>
          <p:nvPr/>
        </p:nvSpPr>
        <p:spPr>
          <a:xfrm>
            <a:off x="8072280" y="2643120"/>
            <a:ext cx="214560" cy="100008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Flèche vers le bas 48" descr=""/>
          <p:cNvPicPr/>
          <p:nvPr/>
        </p:nvPicPr>
        <p:blipFill>
          <a:blip r:embed="rId3"/>
          <a:stretch/>
        </p:blipFill>
        <p:spPr>
          <a:xfrm>
            <a:off x="8332920" y="3760920"/>
            <a:ext cx="257040" cy="1042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6929280" y="2000160"/>
            <a:ext cx="2214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Ab Nov. 2011</a:t>
            </a:r>
            <a:br>
              <a:rPr sz="1200"/>
            </a:b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Datenabgabe</a:t>
            </a: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 (Verdich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7 Disk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33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erständnisfra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33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iskussionspunk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33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850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krozensu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bilität und Verkehr 201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äzision und Aufstock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22200" y="5289480"/>
            <a:ext cx="70948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hilippe Eichenb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2200" y="1329840"/>
            <a:ext cx="76708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Mikrozensus Mobilität und Verkehr 201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77744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Telefoninterviews (CATI); Nettostichprobe: 40’000  Personen (&gt;= 6 J.) in Privathaushal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Interviews auf das ganze Jahr verte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roportionale Verteilung der Stichprobe mit einer Übervertretung des Tessins (= Grossreg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1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Mindeststichprobe (600) in den 31 grössten Agglomerati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2200" y="1329840"/>
            <a:ext cx="767088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bilität und Verkehr: kantonale Stichprobe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61240" y="2050920"/>
            <a:ext cx="317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rtionale Vertei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258920" y="2708280"/>
            <a:ext cx="7194600" cy="3346200"/>
            <a:chOff x="1258920" y="2708280"/>
            <a:chExt cx="7194600" cy="3346200"/>
          </a:xfrm>
        </p:grpSpPr>
        <p:sp>
          <p:nvSpPr>
            <p:cNvPr id="253" name=""/>
            <p:cNvSpPr/>
            <p:nvPr/>
          </p:nvSpPr>
          <p:spPr>
            <a:xfrm>
              <a:off x="1296000" y="2722320"/>
              <a:ext cx="105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ss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05880" y="2722320"/>
              <a:ext cx="61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an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82320" y="272232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12200" y="27223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3840" y="2960640"/>
              <a:ext cx="132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fersee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04440" y="296064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Genè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78360" y="2960640"/>
              <a:ext cx="113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gt;=6 J. in 20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95800" y="29606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52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80160" y="318276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01360" y="3182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05880" y="3403440"/>
              <a:ext cx="48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Val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8360" y="3403440"/>
              <a:ext cx="113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gt;=6 J. in 20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95800" y="34034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743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80160" y="362412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1360" y="36241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6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7080" y="3846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ür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05160" y="3846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ür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78360" y="3846240"/>
              <a:ext cx="113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gt;=6 J. in 20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93920" y="3846240"/>
              <a:ext cx="69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9758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80160" y="406692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01360" y="406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3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06600" y="42894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8360" y="4289400"/>
              <a:ext cx="113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gt;=6 J. in 20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99480" y="42894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30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80160" y="451008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04680" y="4510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05880" y="4732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u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8360" y="4732200"/>
              <a:ext cx="113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gt;=6 J. in 20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5800" y="473220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2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80160" y="495288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04680" y="4952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97440" y="517500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Tic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05520" y="517500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Tic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78360" y="5175000"/>
              <a:ext cx="113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gt;=6 J. in 20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95800" y="517500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328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80160" y="539568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01360" y="5395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92040" y="5618160"/>
              <a:ext cx="144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tal &gt;= 6 J. 20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93920" y="5618160"/>
              <a:ext cx="69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1948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93120" y="5838840"/>
              <a:ext cx="145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amtstichpro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99480" y="58388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67360" y="2722320"/>
              <a:ext cx="0" cy="288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67360" y="2722320"/>
              <a:ext cx="14040" cy="288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42000" y="2722320"/>
              <a:ext cx="0" cy="288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42000" y="2722320"/>
              <a:ext cx="15840" cy="288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58920" y="2708280"/>
              <a:ext cx="0" cy="334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58920" y="2708280"/>
              <a:ext cx="14400" cy="33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74040" y="2722320"/>
              <a:ext cx="0" cy="333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74040" y="2722320"/>
              <a:ext cx="14400" cy="333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39480" y="2722320"/>
              <a:ext cx="0" cy="333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39480" y="2722320"/>
              <a:ext cx="14040" cy="333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3320" y="2708280"/>
              <a:ext cx="718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73320" y="2708280"/>
              <a:ext cx="71802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73320" y="2939760"/>
              <a:ext cx="718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73320" y="2939760"/>
              <a:ext cx="71802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81400" y="3382920"/>
              <a:ext cx="5172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81400" y="3382920"/>
              <a:ext cx="5172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73320" y="3825720"/>
              <a:ext cx="718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73320" y="3825720"/>
              <a:ext cx="71802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81400" y="4268520"/>
              <a:ext cx="5172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81400" y="4268520"/>
              <a:ext cx="51721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81400" y="4711680"/>
              <a:ext cx="5172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81400" y="4711680"/>
              <a:ext cx="5172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73320" y="5154480"/>
              <a:ext cx="718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73320" y="5154480"/>
              <a:ext cx="71802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73320" y="5597280"/>
              <a:ext cx="718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73320" y="5597280"/>
              <a:ext cx="71802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73320" y="5817960"/>
              <a:ext cx="718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3320" y="5817960"/>
              <a:ext cx="71802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73320" y="6040440"/>
              <a:ext cx="718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73320" y="6040440"/>
              <a:ext cx="71802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63452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Mobilität und Verkehr: Stichproben in den Agglomeratione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39120" y="1773360"/>
            <a:ext cx="167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Minimum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046320" y="2278080"/>
            <a:ext cx="4910040" cy="3888000"/>
            <a:chOff x="3046320" y="2278080"/>
            <a:chExt cx="4910040" cy="3888000"/>
          </a:xfrm>
        </p:grpSpPr>
        <p:sp>
          <p:nvSpPr>
            <p:cNvPr id="327" name=""/>
            <p:cNvSpPr/>
            <p:nvPr/>
          </p:nvSpPr>
          <p:spPr>
            <a:xfrm>
              <a:off x="3075480" y="22953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glom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51040" y="229536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55440" y="229536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77640" y="247932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ar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50680" y="247932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=6 J.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93040" y="247932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747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49960" y="266364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65480" y="2663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77640" y="284760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Arb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50680" y="284760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=6 J.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93040" y="28476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33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49960" y="30319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65480" y="3031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79080" y="321624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 (S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50680" y="321624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=6 J.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93040" y="321624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77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49960" y="340020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480" y="3400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76920" y="3585960"/>
              <a:ext cx="44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50680" y="358596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=6 J.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06640" y="358596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25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49960" y="37702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65480" y="3770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8000" y="395424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50680" y="395424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=6 J.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06640" y="395424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5749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49960" y="413856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79440" y="41385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9080" y="4322520"/>
              <a:ext cx="97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tzikon (Z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50680" y="432252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=6 J.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93040" y="432252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0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49960" y="450684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65480" y="4506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80160" y="4692600"/>
              <a:ext cx="57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Wil (S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50680" y="469260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=6 J.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93040" y="469260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77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49960" y="487656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65480" y="4876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78360" y="5060880"/>
              <a:ext cx="70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nterth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50680" y="506088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=6 J.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06640" y="506088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107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49960" y="524484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65480" y="5244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78720" y="54291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u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50680" y="542916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=6 J.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93040" y="542916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61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49960" y="56131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65480" y="561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78720" y="57974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ür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50680" y="579744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=6 J.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22040" y="57974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367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49960" y="598320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79440" y="59832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58920" y="6149880"/>
              <a:ext cx="2273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58920" y="6149880"/>
              <a:ext cx="227340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6320" y="2278080"/>
              <a:ext cx="0" cy="388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6320" y="2278080"/>
              <a:ext cx="12600" cy="388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19720" y="2290680"/>
              <a:ext cx="0" cy="38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19720" y="2290680"/>
              <a:ext cx="12600" cy="38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23040" y="2290680"/>
              <a:ext cx="0" cy="38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23040" y="2290680"/>
              <a:ext cx="12600" cy="38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3760" y="2290680"/>
              <a:ext cx="0" cy="38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43760" y="2290680"/>
              <a:ext cx="12600" cy="38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58920" y="2278080"/>
              <a:ext cx="489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8920" y="2278080"/>
              <a:ext cx="4897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58920" y="2462040"/>
              <a:ext cx="489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58920" y="2462040"/>
              <a:ext cx="48974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58920" y="2830320"/>
              <a:ext cx="489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58920" y="2830320"/>
              <a:ext cx="48974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58920" y="3200040"/>
              <a:ext cx="489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58920" y="3200040"/>
              <a:ext cx="48974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58920" y="3568320"/>
              <a:ext cx="489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8920" y="3568320"/>
              <a:ext cx="4897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58920" y="3936960"/>
              <a:ext cx="489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58920" y="3936960"/>
              <a:ext cx="48974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58920" y="4306680"/>
              <a:ext cx="489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58920" y="4306680"/>
              <a:ext cx="48974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58920" y="4674960"/>
              <a:ext cx="489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8920" y="4674960"/>
              <a:ext cx="48974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58920" y="5043240"/>
              <a:ext cx="489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58920" y="5043240"/>
              <a:ext cx="48974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58920" y="5413320"/>
              <a:ext cx="489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58920" y="5413320"/>
              <a:ext cx="4897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58920" y="5781600"/>
              <a:ext cx="489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58920" y="5781600"/>
              <a:ext cx="48974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5640" y="6149880"/>
              <a:ext cx="720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5640" y="6149880"/>
              <a:ext cx="72072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4534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strument zur Simulation einer Aufstock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71552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echnet Schätzungen (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760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erend auf den Erhebungen der Erhebung 2005, für die neue Stichprobe 2010 (40’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760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ser für die grösseren Kant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ttlere Tagesdistanz in km n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760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hrsmittel und Gr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760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hrsmittel und Al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Ziele der Veranstaltung MZMV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15920"/>
            <a:ext cx="74628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formation über die Ziele des Mikrozensus</a:t>
            </a:r>
            <a:br>
              <a:rPr sz="2100"/>
            </a:b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 Mobilität und Verkehr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formation über die Projektorganis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formation über den Nutzen des Mikrozens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formation über den aktuellen Stand des Projek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Klärung der Möglichkeiten und Grenzen der regionalen Verdicht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Erfahrungsaustausch und Beantwortung von Fra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formation über den Zeitplan und das weitere Vorgeh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6708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strument zur Simulation einer Aufstock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270080" y="2027160"/>
            <a:ext cx="75499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6708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strument zur Simulation einer Aufstock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041480" y="2354400"/>
            <a:ext cx="7783560" cy="3019320"/>
            <a:chOff x="1041480" y="2354400"/>
            <a:chExt cx="7783560" cy="3019320"/>
          </a:xfrm>
        </p:grpSpPr>
        <p:sp>
          <p:nvSpPr>
            <p:cNvPr id="420" name=""/>
            <p:cNvSpPr/>
            <p:nvPr/>
          </p:nvSpPr>
          <p:spPr>
            <a:xfrm>
              <a:off x="1041480" y="2560680"/>
              <a:ext cx="576360" cy="104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16040" y="2560680"/>
              <a:ext cx="1276560" cy="104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41480" y="2765520"/>
              <a:ext cx="4210200" cy="20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86480" y="2765520"/>
              <a:ext cx="3238560" cy="20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59240" y="3182760"/>
              <a:ext cx="362160" cy="1051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97440" y="4016520"/>
              <a:ext cx="723960" cy="10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90800" y="4433760"/>
              <a:ext cx="74448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35280" y="4433760"/>
              <a:ext cx="362160" cy="10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97440" y="4433760"/>
              <a:ext cx="72396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19600" y="4433760"/>
              <a:ext cx="532080" cy="10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24640" y="4433760"/>
              <a:ext cx="1076400" cy="10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01040" y="4433760"/>
              <a:ext cx="34920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50240" y="4433760"/>
              <a:ext cx="349200" cy="10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41480" y="5164200"/>
              <a:ext cx="576360" cy="10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41480" y="5268960"/>
              <a:ext cx="57636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67760" y="2354400"/>
              <a:ext cx="165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esultate mit der nationalen 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12760" y="2354400"/>
              <a:ext cx="150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esultate mit der Gesamt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57680" y="2565360"/>
              <a:ext cx="56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gglome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34040" y="256212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61 Luzer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05200" y="2770200"/>
              <a:ext cx="25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we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39040" y="2770200"/>
              <a:ext cx="25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Zwec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6600" y="2874960"/>
              <a:ext cx="21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tt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32240" y="287496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06280" y="2874960"/>
              <a:ext cx="69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beit/Ausbildu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0400" y="287496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eize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11840" y="287496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inkau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74360" y="287496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e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35440" y="2874960"/>
              <a:ext cx="47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le Zweck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03040" y="2874960"/>
              <a:ext cx="21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tt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01200" y="287496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40120" y="2874960"/>
              <a:ext cx="69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beit/Ausbildu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12960" y="287496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eize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15440" y="287496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inkau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965360" y="287496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e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13840" y="2874960"/>
              <a:ext cx="47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le Zweck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55520" y="297828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34400" y="297828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tanz (km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07760" y="2978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82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69560" y="2978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78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31720" y="2978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47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93520" y="2978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14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23800" y="2978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23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01960" y="297828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03360" y="297828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tanz (km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69960" y="2978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82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73160" y="2978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78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22360" y="2978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47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71920" y="2978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14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597160" y="2978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23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1880" y="308304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07760" y="30830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13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69560" y="30830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27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1720" y="30830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12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3520" y="30830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07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23800" y="30830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33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00840" y="308304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69960" y="30830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09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73160" y="30830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18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22360" y="30830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08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71920" y="30830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05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97160" y="30830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23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33320" y="318780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80760" y="31878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6.7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42560" y="31878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.3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02920" y="31878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.9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66520" y="318456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2.4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95000" y="31878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.3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02280" y="318780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41520" y="31878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1.5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46160" y="31878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.6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3920" y="31878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.9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43120" y="31878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6.1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615880" y="31878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.1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33320" y="32907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78680" y="32907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40480" y="32907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02640" y="32907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64440" y="32907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93280" y="32907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01920" y="32907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77880" y="32907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81080" y="32907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30280" y="32907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79840" y="32907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05080" y="32907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56240" y="339552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34400" y="339552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tanz (km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07760" y="33955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.43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22400" y="33955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.92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31720" y="33955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23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93520" y="33955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.06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76280" y="33955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2.65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02680" y="339552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03360" y="339552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tanz (km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69960" y="33955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.43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27440" y="33955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.92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722360" y="33955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23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71920" y="33955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.06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550000" y="33955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2.65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1880" y="350028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07760" y="3500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16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69560" y="3500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31720" y="3500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7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3520" y="3500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85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23800" y="3500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15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00840" y="350028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69960" y="3500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8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73160" y="3500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44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22360" y="3500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48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1920" y="3500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27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97160" y="350028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17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33320" y="360360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80760" y="36036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1.5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42560" y="36036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.2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02920" y="36036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1.5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5080" y="36036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5.7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95000" y="36036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3.9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02280" y="360360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41520" y="36036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4.8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46160" y="36036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3.3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93920" y="36036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1.7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43120" y="36036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1.5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15880" y="3603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.6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33320" y="37083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78680" y="3708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40480" y="3708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02640" y="3708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64440" y="3708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93280" y="3708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01920" y="37083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77880" y="37083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81080" y="37083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0280" y="37083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79840" y="37083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05080" y="37083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055520" y="3813120"/>
              <a:ext cx="18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E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34400" y="381312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tanz (km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07760" y="38131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15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69560" y="38131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31720" y="38131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99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3520" y="38131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47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23800" y="38131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.72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01960" y="3813120"/>
              <a:ext cx="18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E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03360" y="381312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tanz (km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69960" y="38131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15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73160" y="38131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22360" y="38131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99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71920" y="38131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47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597160" y="38131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.72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631880" y="391644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07760" y="3916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0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69560" y="3916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38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31720" y="3916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62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93520" y="3916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89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23800" y="3916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06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00840" y="391644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69960" y="3916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69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373160" y="3916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95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22360" y="3916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43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71920" y="3916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61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597160" y="3916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42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33320" y="402120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80760" y="40212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2.1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742560" y="40212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4.4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06160" y="40194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63.3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66520" y="40194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60.6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95000" y="40212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3.6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02280" y="402120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41520" y="40212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2.1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46160" y="40212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.6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3920" y="40212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3.6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43120" y="40212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1.8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568720" y="402120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6.3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33320" y="41259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78680" y="41259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40480" y="41259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02640" y="41259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564440" y="41259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93280" y="41259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01920" y="41259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977880" y="41259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81080" y="41259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30280" y="41259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79840" y="41259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605080" y="412596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56600" y="423072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e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34400" y="423072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tanz (km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07760" y="42307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46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69560" y="42307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44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31720" y="42307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0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93520" y="42307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43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23800" y="42307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34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03040" y="423072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e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03360" y="423072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tanz (km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9960" y="42307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46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3160" y="42307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44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722360" y="42307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0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71920" y="42307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43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597160" y="423072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34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31880" y="433404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042920" y="2565360"/>
            <a:ext cx="7781040" cy="2823120"/>
            <a:chOff x="1042920" y="2565360"/>
            <a:chExt cx="7781040" cy="2823120"/>
          </a:xfrm>
        </p:grpSpPr>
        <p:sp>
          <p:nvSpPr>
            <p:cNvPr id="621" name=""/>
            <p:cNvSpPr/>
            <p:nvPr/>
          </p:nvSpPr>
          <p:spPr>
            <a:xfrm>
              <a:off x="3412440" y="43419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63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74240" y="43419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1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36400" y="43419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98200" y="43419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61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28480" y="43419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50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05520" y="434196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74640" y="43419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43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77840" y="43419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75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727040" y="43419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00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76600" y="43419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42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01840" y="434196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03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38000" y="444672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39360" y="4443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35.8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749040" y="444348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76.1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63320" y="4443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82.0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23680" y="4443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43.2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01480" y="444348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63.9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006960" y="444672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49440" y="444348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3.6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52640" y="444348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2.4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54320" y="4443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25.4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49240" y="444348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8.7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573400" y="444672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4.0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38000" y="45514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83360" y="4551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45160" y="4551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07320" y="4551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69120" y="4551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97960" y="4551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06600" y="45514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82560" y="455148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85760" y="455148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34960" y="455148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84520" y="455148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609760" y="455148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60920" y="4654440"/>
              <a:ext cx="38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le Mitt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39080" y="465444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tanz (km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2440" y="4654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.87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27080" y="465444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.25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36400" y="4654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71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98200" y="4654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.1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80960" y="465444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6.96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07360" y="4654440"/>
              <a:ext cx="38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le Mitt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08040" y="465444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tanz (km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74640" y="4654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.87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32120" y="465444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.25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727040" y="4654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71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76600" y="465444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.1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554680" y="465444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6.96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36560" y="475920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12440" y="47592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69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74240" y="47592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76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36400" y="47592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96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98200" y="47592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19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28480" y="47592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92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5520" y="475920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74640" y="47592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16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77840" y="47592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90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727040" y="47592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66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76600" y="47592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51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601840" y="47592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7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38000" y="486396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85440" y="486396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.2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47240" y="486396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6.0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07600" y="486396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6.0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69760" y="486396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6.0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99680" y="486396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.6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06960" y="486396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946200" y="486396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1.8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50840" y="486396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1.0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98600" y="486396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7.9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047800" y="486396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4.8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620560" y="4863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.3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38000" y="49672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83360" y="49672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45160" y="49672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07320" y="49672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69120" y="49672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97960" y="49672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06600" y="49672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82560" y="496728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85760" y="496728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4960" y="496728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084520" y="496728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609760" y="4967280"/>
              <a:ext cx="21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'9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46640" y="5176800"/>
              <a:ext cx="21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ertrauensintervall (95%) liegt zwischen 50% und 100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647000" y="5281560"/>
              <a:ext cx="1809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ertrauensintervall (95%) ist grösser als 100%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47600" y="2565360"/>
              <a:ext cx="571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47600" y="2565360"/>
              <a:ext cx="571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47600" y="2670120"/>
              <a:ext cx="571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47600" y="2670120"/>
              <a:ext cx="571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42920" y="2565360"/>
              <a:ext cx="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42920" y="2565360"/>
              <a:ext cx="4680" cy="10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19280" y="2565360"/>
              <a:ext cx="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19280" y="2565360"/>
              <a:ext cx="4680" cy="1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894040" y="2571840"/>
              <a:ext cx="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94040" y="2571840"/>
              <a:ext cx="4680" cy="10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47600" y="2770200"/>
              <a:ext cx="421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47600" y="2770200"/>
              <a:ext cx="42102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47600" y="2874960"/>
              <a:ext cx="4210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47600" y="2874960"/>
              <a:ext cx="4210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42920" y="2770200"/>
              <a:ext cx="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42920" y="2770200"/>
              <a:ext cx="4680" cy="20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19280" y="2879640"/>
              <a:ext cx="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19280" y="2879640"/>
              <a:ext cx="4680" cy="10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47600" y="2979720"/>
              <a:ext cx="1846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7600" y="2979720"/>
              <a:ext cx="1846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98720" y="2979720"/>
              <a:ext cx="1824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98720" y="2979720"/>
              <a:ext cx="1824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22840" y="2879640"/>
              <a:ext cx="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22840" y="2879640"/>
              <a:ext cx="4680" cy="10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722840" y="2979720"/>
              <a:ext cx="530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22840" y="2979720"/>
              <a:ext cx="530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89720" y="2770200"/>
              <a:ext cx="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89720" y="2770200"/>
              <a:ext cx="4680" cy="20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94400" y="2979720"/>
              <a:ext cx="393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94400" y="2979720"/>
              <a:ext cx="393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19280" y="2984400"/>
              <a:ext cx="0" cy="41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9280" y="2984400"/>
              <a:ext cx="4680" cy="4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94040" y="2776680"/>
              <a:ext cx="0" cy="62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894040" y="2776680"/>
              <a:ext cx="468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37080" y="2776680"/>
              <a:ext cx="0" cy="62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637080" y="2776680"/>
              <a:ext cx="612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98880" y="2879640"/>
              <a:ext cx="0" cy="51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98880" y="2879640"/>
              <a:ext cx="468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61040" y="2879640"/>
              <a:ext cx="0" cy="51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61040" y="2879640"/>
              <a:ext cx="468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22840" y="2984400"/>
              <a:ext cx="0" cy="41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22840" y="2984400"/>
              <a:ext cx="4680" cy="4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47600" y="3397320"/>
              <a:ext cx="4205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47600" y="3397320"/>
              <a:ext cx="42055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94400" y="3397320"/>
              <a:ext cx="393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94400" y="3397320"/>
              <a:ext cx="393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19280" y="34020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19280" y="3402000"/>
              <a:ext cx="4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94040" y="34020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94040" y="3402000"/>
              <a:ext cx="4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37080" y="34020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637080" y="3402000"/>
              <a:ext cx="612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98880" y="34020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98880" y="3402000"/>
              <a:ext cx="4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61040" y="34020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61040" y="3402000"/>
              <a:ext cx="4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22840" y="34020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22840" y="3402000"/>
              <a:ext cx="4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7600" y="3813120"/>
              <a:ext cx="4205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47600" y="3813120"/>
              <a:ext cx="4205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94400" y="3813120"/>
              <a:ext cx="393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94400" y="3813120"/>
              <a:ext cx="393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19280" y="38196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19280" y="3819600"/>
              <a:ext cx="4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94040" y="38196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94040" y="3819600"/>
              <a:ext cx="4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37080" y="38196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637080" y="3819600"/>
              <a:ext cx="612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98880" y="38196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98880" y="3819600"/>
              <a:ext cx="4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361040" y="38196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361040" y="3819600"/>
              <a:ext cx="4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22840" y="3819600"/>
              <a:ext cx="0" cy="41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722840" y="3819600"/>
              <a:ext cx="4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47600" y="4230720"/>
              <a:ext cx="4205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47600" y="4230720"/>
              <a:ext cx="42055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94400" y="4230720"/>
              <a:ext cx="393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594400" y="4230720"/>
              <a:ext cx="393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19280" y="4235400"/>
              <a:ext cx="0" cy="41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619280" y="4235400"/>
              <a:ext cx="4680" cy="4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94040" y="4235400"/>
              <a:ext cx="0" cy="41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94040" y="4235400"/>
              <a:ext cx="4680" cy="4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37080" y="4235400"/>
              <a:ext cx="0" cy="41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37080" y="4235400"/>
              <a:ext cx="6120" cy="4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98880" y="4235400"/>
              <a:ext cx="0" cy="41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998880" y="4235400"/>
              <a:ext cx="4680" cy="4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61040" y="4235400"/>
              <a:ext cx="0" cy="41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61040" y="4235400"/>
              <a:ext cx="4680" cy="4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722840" y="4235400"/>
              <a:ext cx="0" cy="41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722840" y="4235400"/>
              <a:ext cx="4680" cy="4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47600" y="4648320"/>
              <a:ext cx="4205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47600" y="4648320"/>
              <a:ext cx="42055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94400" y="4648320"/>
              <a:ext cx="393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94400" y="4648320"/>
              <a:ext cx="393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047600" y="5065560"/>
              <a:ext cx="571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47600" y="5065560"/>
              <a:ext cx="571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19280" y="5065560"/>
              <a:ext cx="3638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19280" y="5065560"/>
              <a:ext cx="363852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594400" y="5065560"/>
              <a:ext cx="393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594400" y="5065560"/>
              <a:ext cx="3934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42920" y="2979720"/>
              <a:ext cx="0" cy="209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42920" y="2979720"/>
              <a:ext cx="4680" cy="209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19280" y="4653000"/>
              <a:ext cx="0" cy="41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19280" y="4653000"/>
              <a:ext cx="4680" cy="41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4040" y="4653000"/>
              <a:ext cx="0" cy="4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94040" y="4653000"/>
              <a:ext cx="4680" cy="41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637080" y="4653000"/>
              <a:ext cx="0" cy="4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637080" y="4653000"/>
              <a:ext cx="6120" cy="41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98880" y="4653000"/>
              <a:ext cx="0" cy="4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998880" y="4653000"/>
              <a:ext cx="4680" cy="41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61040" y="4653000"/>
              <a:ext cx="0" cy="4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361040" y="4653000"/>
              <a:ext cx="4680" cy="41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22840" y="4653000"/>
              <a:ext cx="0" cy="41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4722840" y="4645080"/>
            <a:ext cx="468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253120" y="2768760"/>
            <a:ext cx="0" cy="229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253120" y="2768760"/>
            <a:ext cx="4680" cy="229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589720" y="2971800"/>
            <a:ext cx="0" cy="209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589720" y="2971800"/>
            <a:ext cx="4680" cy="209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987880" y="2871720"/>
            <a:ext cx="0" cy="218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987880" y="2871720"/>
            <a:ext cx="5040" cy="218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526080" y="2768760"/>
            <a:ext cx="0" cy="229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526080" y="2768760"/>
            <a:ext cx="5040" cy="229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99280" y="2768760"/>
            <a:ext cx="0" cy="229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199280" y="2768760"/>
            <a:ext cx="4680" cy="229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02480" y="2871720"/>
            <a:ext cx="0" cy="2190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602480" y="2871720"/>
            <a:ext cx="6480" cy="219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951680" y="2871720"/>
            <a:ext cx="0" cy="2190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951680" y="2871720"/>
            <a:ext cx="5040" cy="219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00880" y="2871720"/>
            <a:ext cx="0" cy="2190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300880" y="2871720"/>
            <a:ext cx="5040" cy="219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826480" y="2768760"/>
            <a:ext cx="0" cy="229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826480" y="2768760"/>
            <a:ext cx="4680" cy="229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23960" y="2557440"/>
            <a:ext cx="1274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23960" y="2557440"/>
            <a:ext cx="1274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619280" y="2662200"/>
            <a:ext cx="1279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19280" y="2662200"/>
            <a:ext cx="1279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94400" y="2762280"/>
            <a:ext cx="3236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94400" y="2762280"/>
            <a:ext cx="3236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94400" y="2867040"/>
            <a:ext cx="3236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94400" y="2867040"/>
            <a:ext cx="3236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992920" y="297180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92920" y="297180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92920" y="307512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92920" y="3075120"/>
            <a:ext cx="2838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992920" y="317988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92920" y="317988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92920" y="328464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992920" y="328464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992920" y="338940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992920" y="338940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992920" y="349236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992920" y="3492360"/>
            <a:ext cx="2838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92920" y="359712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92920" y="3597120"/>
            <a:ext cx="2838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992920" y="370188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992920" y="3701880"/>
            <a:ext cx="2838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992920" y="380520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92920" y="3805200"/>
            <a:ext cx="2838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2920" y="390996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992920" y="390996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2920" y="401472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992920" y="401472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992920" y="411804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992920" y="4118040"/>
            <a:ext cx="2838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992920" y="422280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992920" y="422280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992920" y="432756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992920" y="432756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92920" y="443232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992920" y="443232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992920" y="453564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92920" y="453564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992920" y="464040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992920" y="464040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992920" y="474516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992920" y="4745160"/>
            <a:ext cx="2838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992920" y="484812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992920" y="4848120"/>
            <a:ext cx="2838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992920" y="4952880"/>
            <a:ext cx="2838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992920" y="4952880"/>
            <a:ext cx="2838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87880" y="5057640"/>
            <a:ext cx="2843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87880" y="5057640"/>
            <a:ext cx="28432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Was verstehen wir unter Genauigkeit?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70256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60360" indent="0">
              <a:lnSpc>
                <a:spcPts val="2599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heis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± 1.2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>
              <a:lnSpc>
                <a:spcPts val="2599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n solches Resultat bedeut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nen Anteil von 10% wird man mit einer Genauigkeit von ±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% schätz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e Zufallsfehler, die man bei der Schätzung eines Anteils v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machen wird, werden sehr wahrscheinlich ± 1.2% nicht überschr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r geschätzte Anteil wird sehr wahrscheinlich im Interva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± 1.2% liegen, das heisst zwischen 8.8% und 11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22200" y="1329840"/>
            <a:ext cx="7094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bilität und Verkehr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edingungen für eine Aufstock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221840" y="2409480"/>
            <a:ext cx="74631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heitliche Aufstockung innerha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s Kantons 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r Agglom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betroffenen Kantone einigen sich über die Aufstockungen für ihre gemeinsamen Gemei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gesamt darf die Stichprobe nach der Aufstockung (d.h. Basis + Aufstockung) höchstens 1.5x grösser sein als die Basisstich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. 60’000 Personen für die Schweiz insges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ellung bis im März des Vorjah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1221840" y="1908000"/>
            <a:ext cx="7286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ed181e"/>
                </a:solidFill>
                <a:latin typeface="Arial"/>
              </a:rPr>
              <a:t>Strukurerh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Verdichtung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Faktor&lt; 2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31.12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Verdichtung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Faktor2-4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01.03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ein Monat nach Inkrafttreten der VZ-Verordn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ed181e"/>
                </a:solidFill>
                <a:latin typeface="Arial"/>
              </a:rPr>
              <a:t>SAKE (2010-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äzisierung der Kos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00.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12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estellung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31.01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ed181e"/>
                </a:solidFill>
                <a:latin typeface="Arial"/>
              </a:rPr>
              <a:t>MZMV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estellung Verdichtung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31.03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Verträge abgeschloss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30.09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ed181e"/>
                </a:solidFill>
                <a:latin typeface="Arial"/>
              </a:rPr>
              <a:t>Information und Bestel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fs.admin.ch/bfs/portal/de/index/news/00/03/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fo@census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222560" y="1330200"/>
            <a:ext cx="5257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eiteres Vorgehen und Term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ZMV 2005: Erfolgsgeschich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32000" y="2204640"/>
            <a:ext cx="74628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reite Kooperation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ARE, weitere Bundesämter, Verdich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he Datenqualität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Stichprobe, Geokodierung, Jahresmobi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rfolgreiche Medienkonferenz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15.05.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Viele Anfragen / Datenabgabe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mit DSV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ca.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Zahlreiche Vertiefungsanalysen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ARE, ASTRA, BASPO, SVI 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Regionale Partner im MZMV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Karte_Verdichter2"/>
          <p:cNvPicPr/>
          <p:nvPr/>
        </p:nvPicPr>
        <p:blipFill>
          <a:blip r:embed="rId1"/>
          <a:srcRect l="200" t="2948" r="400" b="590"/>
          <a:stretch/>
        </p:blipFill>
        <p:spPr>
          <a:xfrm>
            <a:off x="826920" y="1628640"/>
            <a:ext cx="6553440" cy="4319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7342200" y="1773360"/>
            <a:ext cx="1801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Verdichtete Region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Kt. Gen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Kt. Waa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Kt. Neu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Agglo. Frei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Kt. Frei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Bern – RV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Burgdo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Kt. Luze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Kt. Schw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Kt. Zü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Stadt Schaffhau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Kt. Schaffhau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Kt. Thur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IHG-Region 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Kt. Graubü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Agglo. Lug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ZMV 2010: Hauptzie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88640"/>
            <a:ext cx="784872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ufbereitung von Datengrundlagen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ür verkehrs- und 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  raumpolitische Entscheide beim Personenverkehr.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eschreibung des Verkehrsgeschehens,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.h. Informationen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  zum Verkehrsverhalten der ständigen Wohnbevölkerung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  (Verkehrsmittelwahl, Verkehrszwecke, Distanz, Z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bbildung der zeitlichen Entwicklung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s Verkehrsverhaltens: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  Verhaltensänderungen frühzeitig erkennen (Zeitreih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781000"/>
            <a:ext cx="8459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2 Inhalte und Nutzen des MZMV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82440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schichte des MZM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00000" y="1844640"/>
          <a:ext cx="8064720" cy="4005360"/>
        </p:xfrm>
        <a:graphic>
          <a:graphicData uri="http://schemas.openxmlformats.org/drawingml/2006/table">
            <a:tbl>
              <a:tblPr/>
              <a:tblGrid>
                <a:gridCol w="576360"/>
                <a:gridCol w="2017800"/>
                <a:gridCol w="1365120"/>
                <a:gridCol w="1800360"/>
                <a:gridCol w="2305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'114 Haushalte, alle Personen ab 6 Jah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Stichtag, Herb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ombination von schriftlicher und persönlicher Befrag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eitbudgetstudie mit Erfassung aller Tages-aktivitä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0 Haushalte, alle Personen ab 14 Jah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Stichtage, Herb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'513 Haushalte, alle Personen ab 10 Jah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Stichtag, Frühja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chriftliche Befrag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egekonzept in Anlehnung an die KONTIV- Erhebung in Deutsch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'472 Haushalte, alle Personen ab 10 Jah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'570 Haushal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'020 Person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sonen ab 6 Jah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Stichtag über das ganze Jahr vertei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utergestützte telefonische Befragung (CATI-Techni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undlage bildet das Etappenkonz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’918 Haushal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’407 Person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sonen ab 6 Jah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1950 Haushal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3390 Person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sonen ab 6 Jah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verändertes Etappenkonzept, aber erstmals mit Geokodierung während des Intervie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41:33Z</dcterms:created>
  <dc:creator>Marc Gindraux</dc:creator>
  <dc:description/>
  <dc:language>en-US</dc:language>
  <cp:lastModifiedBy>Christoph Freymond</cp:lastModifiedBy>
  <cp:lastPrinted>2003-11-14T16:51:38Z</cp:lastPrinted>
  <dcterms:modified xsi:type="dcterms:W3CDTF">2008-09-15T11:20:45Z</dcterms:modified>
  <cp:revision>204</cp:revision>
  <dc:subject/>
  <dc:title>Titel der Präsentation wenn nötig mit Untertitel nicht fett geschrieben</dc:title>
</cp:coreProperties>
</file>