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2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AE9E5-820C-4634-B2FC-119F869EDB93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21840" y="1330200"/>
            <a:ext cx="74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21840" y="1330200"/>
            <a:ext cx="74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222200" y="6189840"/>
            <a:ext cx="7475760" cy="304560"/>
          </a:xfrm>
          <a:prstGeom prst="octagon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r" pos="7342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ormationen zur Aufstockung der Haushalts- und Personenerhebunge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fld id="{66097D48-2A6B-402F-A855-56607BD4793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r" pos="7342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. September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221840" y="6189840"/>
            <a:ext cx="75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dgenössisches Departement des Innern ED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ndesamt für Statistik B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21840" y="5289480"/>
            <a:ext cx="73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3548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 Bus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5265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Umfeld und Grundlagen der thematischen Erhebunge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Eigenschaften und Ergebnisse (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920" y="2093760"/>
          <a:ext cx="7461360" cy="2228760"/>
        </p:xfrm>
        <a:graphic>
          <a:graphicData uri="http://schemas.openxmlformats.org/drawingml/2006/table">
            <a:tbl>
              <a:tblPr/>
              <a:tblGrid>
                <a:gridCol w="3540240"/>
                <a:gridCol w="3921120"/>
              </a:tblGrid>
              <a:tr h="2238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Register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599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and und Struktur von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völkerung, Haushalten,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bäude und Wohnungen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ch diversen Basismerkm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5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erhebu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5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ährli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5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äumlich detailliert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(Meterkoordinat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Eigenschaften und Ergebnisse (I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58920" y="2060640"/>
          <a:ext cx="7416720" cy="3855600"/>
        </p:xfrm>
        <a:graphic>
          <a:graphicData uri="http://schemas.openxmlformats.org/drawingml/2006/table">
            <a:tbl>
              <a:tblPr/>
              <a:tblGrid>
                <a:gridCol w="3541680"/>
                <a:gridCol w="3875040"/>
              </a:tblGrid>
              <a:tr h="3855600"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truktur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>
                        <a:lnSpc>
                          <a:spcPts val="2599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indikatoren zu: Bevölkerung,    Haushalt und Wohnung / Arbeit / Mobilität / Bildung / Sprache und  Religion / Fami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>
                        <a:lnSpc>
                          <a:spcPts val="2599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357120">
                        <a:lnSpc>
                          <a:spcPts val="2599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hprobe von 200‘000 Personen (2.7% der Wohnbevölkeru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35712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ährl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35712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Resultate können über 3 und 5 Jahre „gepoolt“ werd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35712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r 1 Jahr: Gruppen von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'000 Pers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35712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muliert über 3 Jahre: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Pers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357120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muliert über 5 Jahre: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Person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Eigenschaften und Ergebnisse (II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58920" y="2025720"/>
          <a:ext cx="7777080" cy="4140000"/>
        </p:xfrm>
        <a:graphic>
          <a:graphicData uri="http://schemas.openxmlformats.org/drawingml/2006/table">
            <a:tbl>
              <a:tblPr/>
              <a:tblGrid>
                <a:gridCol w="3716280"/>
                <a:gridCol w="4060800"/>
              </a:tblGrid>
              <a:tr h="2952360"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Thematische Erhebu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efung der Struktur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obilität und Verke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us- und Weiterbild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sundh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amilien und Generati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rache, Religion und Kult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Konnex zur Strukturerhebu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hproben von 10‘000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Personen (MZMV 40‘000 Personen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ierend alle 5 Jah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nspezifische Informationen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(Schweiz und Grossregion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MV: Niveau der 31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grössten Agglomerati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Analyseschwerpunkt der SE en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    </a:t>
                      </a: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pricht jedes Jahr dem jeweiligen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     Thema der thematischen 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Omn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Themenwahl nach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hprobe von 3000 Pers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nspezifische Informationen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auf Niveau Schweiz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ährlich, keine Aufstocku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usion der Result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1773000"/>
            <a:ext cx="7462800" cy="39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d181e"/>
                </a:solidFill>
                <a:latin typeface="Arial"/>
              </a:rPr>
              <a:t>Register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 stehen jedes Jahr rund acht Monate nach der Erhebung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d181e"/>
                </a:solidFill>
                <a:latin typeface="Arial"/>
              </a:rPr>
              <a:t>Struktur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jährliche Daten stehen spätestens ein Jahr nach dem Stichtag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e 2013 -&gt; Pooldatensätze 2010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e 2015 -&gt; Pooldatensätze 2010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d181e"/>
                </a:solidFill>
                <a:latin typeface="Arial"/>
              </a:rPr>
              <a:t>Thematische Erhe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efinitiven Resultate stehen ein Jahr nach Erhebungsabschluss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d181e"/>
                </a:solidFill>
                <a:latin typeface="Arial"/>
              </a:rPr>
              <a:t>Omni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s Jahr rund sechs Monate nach der 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21840" y="1329840"/>
            <a:ext cx="7597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erhältnis zwischen geographischer Tiefenschärfe und thematischer Detaillieru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2425680"/>
            <a:ext cx="7132680" cy="3451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751280" y="3084480"/>
            <a:ext cx="1656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Kant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öglichkeiten d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8920" y="2050920"/>
            <a:ext cx="7724880" cy="39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ts val="2599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olkszählungsgesetz ermöglicht gemäss Artikel 8 di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stockung der Stichprobenerheb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rch die Kan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praktischen und konzeptionellen Gründen sind bei der Aufstockung einer Erhebu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setzt (z.B. Kosten, Befragungskapazitäten, Belastung der Befrag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Aufstockung d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erheb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rd im Rahmen der jährlich vorgesehenen Koordinationstreffen „Volkszählung“ koordin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ür di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atischen Erheb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rd die Aufstockung im Rahmen jeweiligen Koordinationstreffen mit den interessierten Kantonen festgele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599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ntone koordinier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Bedürfnis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f ihrem Geb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tuation bei SILC und HAB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920" y="2050920"/>
            <a:ext cx="7724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C wurde 2007 erstmals durchgeführt. Erste Resultate sind Ende dieses Jahres erhält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C ist eine komplexe Erhebung mit einem rotierenden Panel, das für einen Haushalt 4 Jahre dau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m Unterschied zu den übrigen Surveys werden gemäss den Anforderungen der EU alle Haushaltsmitglieder telefonisch befragt. Das führt dazu, dass ein Interview durchschnittlich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200.- Franken kos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m Herbst 2009 Informationen zu den Möglichkeiten einer Aufstockung an die Kan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erste aufgestockte SILC wäre ab 2011 denk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ie HABE wurde bisher nie aufgestockt. Bei Bedarf sind wir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offen für Gespräche. Ein Haushalt kostet rund 500.- Fra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88544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o finde ich die Merkmale und den Basisoutput der Statistiken?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ormationen zum Vertiefen und Nachschlagen (siehe Dokumentation):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22200" y="2133360"/>
            <a:ext cx="78854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elle 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lüssel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ellen 2 und 3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isstatistiken von Bevölkerung, Haushalte und Wohn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ed181e"/>
                </a:solidFill>
                <a:latin typeface="Arial Narrow"/>
              </a:rPr>
              <a:t>aus der Register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elle 4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kturstatisti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ed181e"/>
                </a:solidFill>
                <a:latin typeface="Arial Narrow"/>
              </a:rPr>
              <a:t>aus der Struktur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ellen 5 bis 9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istiken zu den einzelnen Themenfeldern und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bensberei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ed181e"/>
                </a:solidFill>
                <a:latin typeface="Arial Narrow"/>
              </a:rPr>
              <a:t>aus den thematischen Erhebunge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1360" indent="-26964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bilität und 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1360" indent="-26964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us-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1360" indent="-26964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sund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1360" indent="-26964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milien und Gener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1360" indent="-26964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rache, Religion und Kul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42968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SAKE-Re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30200" y="5289480"/>
            <a:ext cx="742968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in V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1840" y="1463400"/>
            <a:ext cx="74631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6950160" cy="40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KE 1991-2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KE ab 2010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izität/Produktionsfris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tationsschem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ichprobengrös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ichproben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stische Genauigk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rittweise Einführ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ion des Fragenbog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tionale und europäische Modu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dingungen und Kosten der Verdicht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746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Die Grundprinzipien für die neue VZ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175520" cy="39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lnSpc>
                <a:spcPts val="2299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neue Volkszählung stützt sich in erster Linie auf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waltungsda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Kantonale und kommunale Einwohnerregister, Bundespersonenregister, eidg. Gebäude- und Wohnungs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299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sätzlicher Informationsbedarf wird mittels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rgänzender Stichprobenerhebung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abgedeckt (Strukturerhebung, thematische Erhebungen, Omni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299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ganze Statistikproduktion (von der Erhebung bis zum Output) wird in einem Gesamtsystem Haushalts- und Personenstatistiken (SHAPE)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tegriert und koordin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AKE 1991-2009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670880" cy="40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ichprobe variiert von 16’000 bis zu 40’000 Person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genwärtige Stichprobe: 30’000 Person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usätzlich seit 2003: spezielle Ausländerstichprobe (15’00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onale Schichtung mit Überrepräsentation des Tessi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rchführung der Erhebung im 2. Quartal (April bis Jun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fragung der Personen während 5 Jahren (1x pro Jah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gebogen zu 80-90% Europa-kompatib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iwillige Teilnah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uer des Interviews: 1. Welle 25 Minuten, 20 Minuten für jede weitere We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 nationale Module: Weiterbildung, soziale Sicherheit, unbezahlte Arbeit, Mig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AKE ab 201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ion der Erhebung wegen des Abkommens zur Statistik im Rahmen der bilateralen Verträ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chtigste Änderung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ntinuierliche Erhebung über das ganze Jahr =&gt; vierteljährliche Da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inhaltung gewisser Präzisionskriterien =&gt; Vergrösserung der Stichpro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Änderung des Rotationssche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ion des Fragebog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ue Voraussetzungen für Verdicht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iodizität / Produktionsfrist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1840" y="2050560"/>
            <a:ext cx="764388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ntinuierliche Erheb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leichmässige Verteilung der Interviews über alle Wochen des Jah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el: Ermittlung von vierteljährlichen und jährlichen Mittelwer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rtalsdaten müssen nach Quartalsende innerhalb von 3 Monaten an EUROSTAT übermittelt wer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her ist es auch das Ziel, die Quartalszahlen innerhalb der 3 Monate nach Quartalsende zu publiziere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22200" y="2770200"/>
            <a:ext cx="6913800" cy="3111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tationsschema 3-9-3 (1)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03840" y="2050920"/>
            <a:ext cx="55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 = Welle 1, V2 = Welle 2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au: Rotationsparcours einer Person, die an der SAKE teilnim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tationsschema 3-9-3 (2)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22200" y="2050560"/>
            <a:ext cx="767088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wurde gewählt, weil es einen Kompromiss darstellt zwisc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zision zwischen 2 aufeinander folgenden Quartalen</a:t>
            </a:r>
            <a:br>
              <a:rPr sz="1800"/>
            </a:br>
            <a:r>
              <a:rPr b="1" i="1" lang="en-US" sz="1800" spc="-1" strike="noStrike">
                <a:solidFill>
                  <a:srgbClr val="ed181e"/>
                </a:solidFill>
                <a:latin typeface="Arial"/>
              </a:rPr>
              <a:t>Strengstes Präzisionskriterium (von EUROSTAT festgelegt)</a:t>
            </a:r>
            <a:br>
              <a:rPr sz="1800"/>
            </a:br>
            <a:r>
              <a:rPr b="0" i="1" lang="en-US" sz="1800" spc="-1" strike="noStrike">
                <a:solidFill>
                  <a:srgbClr val="ed181e"/>
                </a:solidFill>
                <a:latin typeface="Arial"/>
              </a:rPr>
              <a:t>Für eine Subpopulation, die 5% der Bevölkerung im Erwerbsalter repräsentiert, darf die Standardabweichung bei der Schätzung der Veränderungen zwischen 2 aufeinander folgenden Quartalen nicht grösser sein als 3% der betreffenden Sub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Präzision zwischen einem Quartal und dem Vergleichsquartal im Vorjahr</a:t>
            </a:r>
            <a:br>
              <a:rPr sz="1800"/>
            </a:br>
            <a:r>
              <a:rPr b="1" i="1" lang="en-US" sz="1800" spc="-1" strike="noStrike">
                <a:solidFill>
                  <a:srgbClr val="ed181e"/>
                </a:solidFill>
                <a:latin typeface="Arial"/>
              </a:rPr>
              <a:t>Nationale Anforderungen </a:t>
            </a:r>
            <a:br>
              <a:rPr sz="1800"/>
            </a:br>
            <a:r>
              <a:rPr b="0" i="1" lang="en-US" sz="1800" spc="-1" strike="noStrike">
                <a:solidFill>
                  <a:srgbClr val="ed181e"/>
                </a:solidFill>
                <a:latin typeface="Arial"/>
              </a:rPr>
              <a:t>Um von saisonalen Schwankungen abstrahieren zu können, werden die Arbeitsmarktindikatoren in der Regel in einem Intervall von 12 Monaten vergl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tationsschema 3-9-3 (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22200" y="3022560"/>
            <a:ext cx="6912000" cy="3117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2200" y="194328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Überschneid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oretisch) 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ufeinander folgenden Quart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tationsschema 3-9-3 (4)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22200" y="3022560"/>
            <a:ext cx="6913800" cy="3117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28680" y="1943280"/>
            <a:ext cx="65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Überschneidung (theoretisch) bei Interv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1 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ttostichprobengröss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09488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ndardstichprob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5’000 Interviews jährli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nd 50’000 verschiedene Personen pro Jah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Ausländerstichprob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21’000 Interviews jährli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Etwa 11’000 verschiedene Ausländer pro Jah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Gesamte Stichprob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116’000 Interviews jährli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d181e"/>
                </a:solidFill>
                <a:latin typeface="Arial"/>
              </a:rPr>
              <a:t>Etwa 61’000 verschiedene Personen pro Jah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ichprobenpla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670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leiche Grundsätze wie bis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portionale Schichtung nach Kanton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riterium: Verteilung der Bevölkerung von 15 Jahren und mehr; nicht die Bruttostichprobe ist Gegenstand einer proportionalen Zuteilung, sondern die aufgrund der Antwortquoten in den vorherigen Jahren erwartete Nettostichprob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snahme: Übervertretung des Tessins (6% der Stichprobe) wegen seines Status als Grossregion (Einhaltung eines EUROSTAT-Kriterium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tistische Genauigkei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22200" y="2050560"/>
            <a:ext cx="77155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tatistisches Tool, das Philippe Eichenberger vorstellen wi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gleich aufgrund von 2 Indikatoren: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1) Erwerbsquote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2) Erwerbslosenqu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gleich zwischen gegenwärtiger SAKE, kontinuierlicher SAKE und Strukturerheb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11280" y="165240"/>
            <a:ext cx="6527880" cy="652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54600">
            <a:off x="1977120" y="198684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Informationsgesellsc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3160" y="601992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Nachhaltige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7928000">
            <a:off x="6990480" y="4554720"/>
            <a:ext cx="2359080" cy="503280"/>
          </a:xfrm>
          <a:prstGeom prst="leftRightArrow">
            <a:avLst>
              <a:gd name="adj1" fmla="val 50000"/>
              <a:gd name="adj2" fmla="val 93314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ews Gothic Std"/>
                <a:ea typeface="MS Gothic"/>
              </a:rPr>
              <a:t>Armut und sozialer Ausschl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3412200">
            <a:off x="2134080" y="465372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Chancengleich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7080" y="33336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Lebensbeding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4320" y="932040"/>
            <a:ext cx="5089680" cy="508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580000">
            <a:off x="5911560" y="3342960"/>
            <a:ext cx="2006640" cy="7858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Einkom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und Kon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8460000">
            <a:off x="5703840" y="2233440"/>
            <a:ext cx="2005200" cy="7876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820000">
            <a:off x="3362400" y="3351240"/>
            <a:ext cx="2006640" cy="7873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6960000">
            <a:off x="4100040" y="4198680"/>
            <a:ext cx="1968480" cy="800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Gesund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80720" y="1815120"/>
            <a:ext cx="1968480" cy="8589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Fami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340000">
            <a:off x="3614400" y="2265120"/>
            <a:ext cx="2008080" cy="7873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Sprache, Religion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und Kult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4640000">
            <a:off x="5244840" y="4209840"/>
            <a:ext cx="1968480" cy="803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Mobil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40280" y="2717640"/>
            <a:ext cx="1384200" cy="1357560"/>
          </a:xfrm>
          <a:prstGeom prst="ellipse">
            <a:avLst/>
          </a:prstGeom>
          <a:gradFill rotWithShape="0">
            <a:gsLst>
              <a:gs pos="0">
                <a:srgbClr val="ed181e"/>
              </a:gs>
              <a:gs pos="100000">
                <a:srgbClr val="808080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 Std"/>
                <a:ea typeface="MS Gothic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 Std"/>
                <a:ea typeface="MS Gothic"/>
              </a:rPr>
              <a:t>Haus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 Std"/>
                <a:ea typeface="MS Gothic"/>
              </a:rPr>
              <a:t>Wo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122480"/>
            <a:ext cx="246996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81e"/>
                </a:solidFill>
                <a:latin typeface="Arial"/>
              </a:rPr>
              <a:t>Basisinformationen</a:t>
            </a:r>
            <a:br>
              <a:rPr sz="1800"/>
            </a:br>
            <a:r>
              <a:rPr b="1" lang="en-US" sz="18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266400">
            <a:off x="6958800" y="1626480"/>
            <a:ext cx="2232000" cy="503280"/>
          </a:xfrm>
          <a:prstGeom prst="leftRight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 Gothic Std"/>
                <a:ea typeface="MS Gothic"/>
              </a:rPr>
              <a:t>Alterssich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720" y="258120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bens-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re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000" y="4809960"/>
            <a:ext cx="17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nsversale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erspekt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1480" y="2581200"/>
            <a:ext cx="7463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ee2025"/>
                </a:solidFill>
                <a:latin typeface="Arial"/>
              </a:rPr>
              <a:t>S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ystem der </a:t>
            </a:r>
            <a:r>
              <a:rPr b="1" lang="de-CH" sz="2300" spc="-1" strike="noStrike">
                <a:solidFill>
                  <a:srgbClr val="ee2025"/>
                </a:solidFill>
                <a:latin typeface="Arial"/>
              </a:rPr>
              <a:t>Ha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ushalts- und </a:t>
            </a:r>
            <a:br>
              <a:rPr sz="2300"/>
            </a:br>
            <a:r>
              <a:rPr b="1" lang="de-CH" sz="2300" spc="-1" strike="noStrike">
                <a:solidFill>
                  <a:srgbClr val="ee2025"/>
                </a:solidFill>
                <a:latin typeface="Arial"/>
              </a:rPr>
              <a:t>Pe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rsonenstatistiken</a:t>
            </a:r>
            <a:r>
              <a:rPr b="1" lang="fr-CH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300" spc="-1" strike="noStrike">
                <a:solidFill>
                  <a:srgbClr val="ee2025"/>
                </a:solidFill>
                <a:latin typeface="Arial"/>
              </a:rPr>
              <a:t>SHAP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chrittweise Einführung der kontinuierlichen Erheb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203880" y="3036960"/>
            <a:ext cx="2932920" cy="1618560"/>
            <a:chOff x="6203880" y="3036960"/>
            <a:chExt cx="2932920" cy="1618560"/>
          </a:xfrm>
        </p:grpSpPr>
        <p:sp>
          <p:nvSpPr>
            <p:cNvPr id="224" name=""/>
            <p:cNvSpPr/>
            <p:nvPr/>
          </p:nvSpPr>
          <p:spPr>
            <a:xfrm>
              <a:off x="6778440" y="3036960"/>
              <a:ext cx="2358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ontinuierli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hebung,</a:t>
              </a:r>
              <a:r>
                <a:rPr b="0" lang="en-US" sz="2000" spc="-1" strike="noStrike">
                  <a:solidFill>
                    <a:srgbClr val="ed181e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 1. Quartal 2010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llumfängl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mgesetz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3880" y="3468600"/>
              <a:ext cx="505080" cy="360000"/>
            </a:xfrm>
            <a:prstGeom prst="rightArrow">
              <a:avLst>
                <a:gd name="adj1" fmla="val 50000"/>
                <a:gd name="adj2" fmla="val 350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22200" y="2409840"/>
            <a:ext cx="491976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vision des Fragenkatalo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64388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Verkürzung der Interviews (Reduktion der Kosten und der Belastung der befragten Person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EUROSTAT: vierteljährliche Variablen (müssen jedes Quartal für ganze Stichprobe gebildet werden), jährliche Variablen (bei jeder Person nur einmal pro Jahr erfrag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Für Wellen 2 bis 4: Wichtigste Filterfragen, um Änderungen im Status festzustellen (kleinerer Befragungsaufwa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Neue Fragen: Gesundheitszustand (Minimum European Health Module), hauptsächlicher Erwerbs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Provisorische Variablenliste für Download auf Internet: Link zum Por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ationale und europäische Modu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21840" y="2050560"/>
            <a:ext cx="7704360" cy="19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71360" indent="-171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llel geführte Module wegen einer zufallsbedingten Trennung der Stichprobe: Im Maximum 2/3 für das nationale Modul, im Minimum 1/3 für das europäische Mod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e ausschliesslich in die 1. Welle integrie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 «Weiterbildung» wird 2009 letztmals realisiert; wird danach  durch eine thematische Erhebung abgelö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58920" y="4197240"/>
          <a:ext cx="7705800" cy="1824120"/>
        </p:xfrm>
        <a:graphic>
          <a:graphicData uri="http://schemas.openxmlformats.org/drawingml/2006/table">
            <a:tbl>
              <a:tblPr/>
              <a:tblGrid>
                <a:gridCol w="792360"/>
                <a:gridCol w="2430360"/>
                <a:gridCol w="44830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h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es Mod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STAT-Mod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iterbildu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tritt der Jugendlichen in den Arbeitsmark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bezahlte Arbeit und externer Kinderhütedien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einbarkeit von Berufs- und Familienleb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ziale Sicherhe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chäftigung von Behindert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g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Übergang vom Erwerbsleben in den Ruhesta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gelungen für Verdichtung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31920" y="1893960"/>
          <a:ext cx="7704000" cy="3460680"/>
        </p:xfrm>
        <a:graphic>
          <a:graphicData uri="http://schemas.openxmlformats.org/drawingml/2006/table">
            <a:tbl>
              <a:tblPr/>
              <a:tblGrid>
                <a:gridCol w="3151080"/>
                <a:gridCol w="4552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el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ale Verdi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doppelung der Basisstichpr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e Vertragsd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Jah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n einer Verdi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e ersten Interviews werden im 1. Quartal des betreffenden Jahres durchgefüh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e einer Verdi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e letzten Interviews werden im 4. Quartal des betreffenden Jahres durchgefüh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meldefr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Januar des Vorjah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ionsschema für Verdi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eiches Rotationsschema wie Basisstichpr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mögliche Verdi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Quartal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221840" y="5468760"/>
            <a:ext cx="5930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länderstichprobe kann nicht verdicht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ist nicht möglich, nur eines der beiden Module zu verdich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chema einer Verdichtung 2010-201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941720"/>
            <a:ext cx="2665440" cy="360360"/>
          </a:xfrm>
          <a:custGeom>
            <a:avLst/>
            <a:gdLst>
              <a:gd name="textAreaLeft" fmla="*/ 504360 w 2665440"/>
              <a:gd name="textAreaRight" fmla="*/ 1741680 w 26654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78" hR="21600" stAng="10800000" swAng="-5400000"/>
                <a:lnTo>
                  <a:pt x="10026" y="21600"/>
                </a:lnTo>
                <a:arcTo wR="8178" hR="21600" stAng="5400000" swAng="-2817608"/>
                <a:lnTo>
                  <a:pt x="21132" y="7200"/>
                </a:lnTo>
                <a:lnTo>
                  <a:pt x="17280" y="0"/>
                </a:lnTo>
                <a:lnTo>
                  <a:pt x="12492" y="7200"/>
                </a:lnTo>
                <a:lnTo>
                  <a:pt x="15888" y="7200"/>
                </a:lnTo>
                <a:arcTo wR="8178" hR="21600" stAng="2582392" swAng="2669693"/>
                <a:lnTo>
                  <a:pt x="9102" y="21462"/>
                </a:lnTo>
                <a:arcTo wR="8178" hR="21600" stAng="5547916" swAng="5252084"/>
                <a:close/>
              </a:path>
              <a:path fill="darkenLess" w="21600" h="21600">
                <a:moveTo>
                  <a:pt x="0" y="0"/>
                </a:moveTo>
                <a:arcTo wR="8178" hR="21600" stAng="10800000" swAng="-5400000"/>
                <a:lnTo>
                  <a:pt x="10026" y="21600"/>
                </a:lnTo>
                <a:arcTo wR="8178" hR="21600" stAng="5400000" swAng="147916"/>
                <a:lnTo>
                  <a:pt x="9102" y="21462"/>
                </a:lnTo>
                <a:arcTo wR="8178" hR="21600" stAng="5547916" swAng="525208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445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ichtete Elimination</a:t>
            </a:r>
            <a:r>
              <a:rPr b="0" lang="en-US" sz="1800" spc="-1" strike="noStrike">
                <a:solidFill>
                  <a:srgbClr val="ed18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r Vermeidung von Seriebrüc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961080" cy="2901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96072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Kosten für Verdichtung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2220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009: Pauschalkosten inkl. Geschenk (Briefmarken im Wert von Fr. 5.-) und Beitrag an die Kosten des BFS: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. 84.- pro Interview in 1. Well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. 64.- pro Interview in Wellen 2-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 2010 werden die Dauer der Interviews reduziert und die Geschenke abgeschafft.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ätzung: im Durchschnitt Fr. 60.-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ese Kostenangaben werden präzisiert aufgrund der Interviewdauer (gemäss Piloterhebung) und des überarbeiteten Kostenvoranschlags des beauftragten Befragungsinstitut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Zeitplan für kontinuierliche SAKE (1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16000" y="1916280"/>
          <a:ext cx="7632720" cy="4116240"/>
        </p:xfrm>
        <a:graphic>
          <a:graphicData uri="http://schemas.openxmlformats.org/drawingml/2006/table">
            <a:tbl>
              <a:tblPr/>
              <a:tblGrid>
                <a:gridCol w="6480360"/>
                <a:gridCol w="115236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nehmigung des Projektantrags durch Direktion des B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18.04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nehmigung des Grobkonzepts durch Direktion des B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14.08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Genehmigung des Detailkonzepts durch Direktion des B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05.05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Piloterhebung 1. Welle (Test: Fragebogen, Antwortpflic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Juni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Piloterhebung 2. Welle (Test: Fragebogen, Antwortpflic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Sept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Entscheidung betreffend Weiterführung der Ausländerstichp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8814"/>
                          </a:solidFill>
                          <a:latin typeface="Arial"/>
                        </a:rPr>
                        <a:t>Sept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Bericht über Pilot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Nov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efinitive Entscheidung betreffend Antwortpfli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Nov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Präzisierung der Offerte des beauftragten Befragungsinstit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ez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Zeitplan für kontinuierliche SAKE (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16000" y="1996920"/>
          <a:ext cx="7704000" cy="3275280"/>
        </p:xfrm>
        <a:graphic>
          <a:graphicData uri="http://schemas.openxmlformats.org/drawingml/2006/table">
            <a:tbl>
              <a:tblPr/>
              <a:tblGrid>
                <a:gridCol w="6394320"/>
                <a:gridCol w="13096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chriftliche Information der Kantone über Kosten der Verdichtu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Dez. 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Anmeldefrist für Verdichtungen 2010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31.01.0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tichproben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3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tichprobenziehung für 3. Quartal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Schrittweise Einführung der kontinuierlichen Erhe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Juli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Kontinuierliche Erhebung vollumfänglich realisier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01.0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Übermittlung der Daten des 1. Quartals 2010 an Euro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d181e"/>
                          </a:solidFill>
                          <a:latin typeface="Arial"/>
                        </a:rPr>
                        <a:t>Juni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226520" y="5468760"/>
            <a:ext cx="6823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Ausnahmsweise 1 Monat später angesetzt als gemäss den vorh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usgeführten Regel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2852640"/>
            <a:ext cx="7462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(Zugriff auf Portal des BFS)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ttp://www.bfs.admin.ch/bfs/portal/de/index/news/00/03/01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31052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Schweizerische Arbeitskräfte-erhebung (SAKE ): </a:t>
            </a:r>
            <a:br>
              <a:rPr sz="3800"/>
            </a:br>
            <a:r>
              <a:rPr b="1" lang="de-CH" sz="3800" spc="-1" strike="noStrike">
                <a:solidFill>
                  <a:srgbClr val="000000"/>
                </a:solidFill>
                <a:latin typeface="Arial"/>
              </a:rPr>
              <a:t>Präzision und Aufstocku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22200" y="5289480"/>
            <a:ext cx="738216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h. Eichen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22200" y="1329840"/>
            <a:ext cx="767088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00000"/>
              </a:lnSpc>
              <a:spcAft>
                <a:spcPts val="675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undprinzipien SHA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Arial"/>
              </a:rPr>
              <a:t>Grundgesamtheiten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Grundgesamtheiten stecken den Rahmen der Haushalts- und Personenstatistiken ab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hnbevölkeru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haushal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hngebäude und Wo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Arial"/>
              </a:rPr>
              <a:t>Bevölkerungsgru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Gesamtheit der Bevölkerung ist heterogen und verlangt nach der Unterscheidung von Bevölkerungsgruppen, z. B.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nner / Frau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erbstätige / Nichterwerbsperson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en mit und ohne Migrationshintergru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personenhaushalte, Familienhaushalt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r" pos="54144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Arial"/>
              </a:rPr>
              <a:t>Schlüsselmerkma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r Bestimmung und Abgrenzung einheitlicher Grundgesamtheiten und vergleichbarer Bevölkerungsgruppen werden Schlüsselmerk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ür alle Erheb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iert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bark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 Resul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6518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AK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67088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95’000 über das ganze Jahr verteilte CATI-Interviews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1. Auswahl des Haushalts, 2. der Zielperson (15-J.+)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Zielpersonen 4x in 15 Monaten interviewt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 Jahr 50’000 verschiedene Personen intervie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portionale Verteilung der Stichprobe (Grossregion TI leicht übervertre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uropäische Präzisionskrite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ansversal: durchschn. jährliche Arbeitslosenqu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ngitudinal: Differenz zw. 2 aufeinanderfolgenden Quart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uche nach Kompromiss, um Kriterien zu entspre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AK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22200" y="2050560"/>
            <a:ext cx="7670880" cy="38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hohen Korre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che Abdeck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160" indent="-1760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Wingdings 2"/>
                <a:ea typeface="Wingdings 2"/>
              </a:rPr>
              <a:t>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Jahres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160" indent="-1760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81e"/>
                </a:solidFill>
                <a:latin typeface="Wingdings 2"/>
                <a:ea typeface="Wingdings 2"/>
              </a:rPr>
              <a:t>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Entwick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fassende Abdeck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160" indent="-1760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81e"/>
                </a:solidFill>
                <a:latin typeface="Wingdings 2"/>
                <a:ea typeface="Wingdings 2"/>
              </a:rPr>
              <a:t>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Jahres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160" indent="-176040">
              <a:lnSpc>
                <a:spcPct val="100000"/>
              </a:lnSpc>
              <a:buClr>
                <a:srgbClr val="808080"/>
              </a:buClr>
              <a:buFont typeface="Wingdings 2" charset="2"/>
              <a:buChar char="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Wingdings 2"/>
                <a:ea typeface="Wingdings 2"/>
              </a:rPr>
              <a:t>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Entwick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1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3 - 9 – 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Mon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buNone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421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ert auf den Hypothesen zu den Korrelationen und Antwortquoten gemäss aktueller SAKE, Bestätigung noch aussteh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18848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otationsschem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06320" y="1940040"/>
            <a:ext cx="8329320" cy="4102920"/>
            <a:chOff x="706320" y="1940040"/>
            <a:chExt cx="8329320" cy="4102920"/>
          </a:xfrm>
        </p:grpSpPr>
        <p:sp>
          <p:nvSpPr>
            <p:cNvPr id="256" name=""/>
            <p:cNvSpPr/>
            <p:nvPr/>
          </p:nvSpPr>
          <p:spPr>
            <a:xfrm>
              <a:off x="718920" y="2287440"/>
              <a:ext cx="95076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44360" y="2287440"/>
              <a:ext cx="95112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9800" y="2287440"/>
              <a:ext cx="951120" cy="460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95600" y="2287440"/>
              <a:ext cx="95256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22480" y="2287440"/>
              <a:ext cx="95112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8280" y="2287440"/>
              <a:ext cx="95076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73720" y="2287440"/>
              <a:ext cx="950760" cy="460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920" y="2746440"/>
              <a:ext cx="95076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44360" y="2746440"/>
              <a:ext cx="95112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69800" y="2746440"/>
              <a:ext cx="95112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5600" y="2746440"/>
              <a:ext cx="952560" cy="460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2480" y="2746440"/>
              <a:ext cx="95112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8280" y="2746440"/>
              <a:ext cx="95076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73720" y="2746440"/>
              <a:ext cx="95076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8920" y="3206880"/>
              <a:ext cx="950760" cy="460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4360" y="3206880"/>
              <a:ext cx="951120" cy="460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69800" y="3206880"/>
              <a:ext cx="951120" cy="460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5600" y="3206880"/>
              <a:ext cx="952560" cy="460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22480" y="3206880"/>
              <a:ext cx="951120" cy="460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48280" y="3206880"/>
              <a:ext cx="950760" cy="460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73720" y="3206880"/>
              <a:ext cx="950760" cy="460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8920" y="3665520"/>
              <a:ext cx="95076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44360" y="3665520"/>
              <a:ext cx="95112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69800" y="3665520"/>
              <a:ext cx="95112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89120" y="3665520"/>
              <a:ext cx="952560" cy="460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22480" y="3665520"/>
              <a:ext cx="95112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8280" y="3665520"/>
              <a:ext cx="95076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3720" y="3665520"/>
              <a:ext cx="950760" cy="46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560" y="194004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20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0720" y="194004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 20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6160" y="1940040"/>
              <a:ext cx="59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I 20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32680" y="194004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V 20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8120" y="194004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2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84640" y="194004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 2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09720" y="1940040"/>
              <a:ext cx="59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II 2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1420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3964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6508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232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776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4356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70440" y="2297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5516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060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604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3328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5872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452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09960" y="27558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5516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060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604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3328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872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452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09960" y="3216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5516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060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604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3328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5872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8452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09960" y="3675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38920" y="4356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3 mo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06640" y="435600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7240" y="5143680"/>
              <a:ext cx="66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 a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33240" y="4884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11080" y="57834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008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5552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096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0820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3364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9440" y="227808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008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52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8096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820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364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9440" y="273852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08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5552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096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0820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364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9440" y="319716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008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5552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096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0820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364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9440" y="3656160"/>
              <a:ext cx="949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008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5552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096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0820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364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9440" y="4116240"/>
              <a:ext cx="949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6320" y="2278080"/>
              <a:ext cx="2376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7080" y="2295360"/>
              <a:ext cx="2232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33200" y="2278080"/>
              <a:ext cx="2232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82520" y="2295360"/>
              <a:ext cx="2232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59000" y="2278080"/>
              <a:ext cx="2196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8320" y="2295360"/>
              <a:ext cx="2196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4440" y="2278080"/>
              <a:ext cx="2376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5200" y="2295360"/>
              <a:ext cx="2232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2278080"/>
              <a:ext cx="2196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61000" y="2295360"/>
              <a:ext cx="2196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37120" y="2278080"/>
              <a:ext cx="2232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86440" y="2295360"/>
              <a:ext cx="2232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62560" y="2278080"/>
              <a:ext cx="22320" cy="18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11880" y="2295360"/>
              <a:ext cx="23760" cy="183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8920" y="2160720"/>
              <a:ext cx="8305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84880" y="2278080"/>
              <a:ext cx="950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84880" y="2738520"/>
              <a:ext cx="950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84880" y="3197160"/>
              <a:ext cx="950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84880" y="3656160"/>
              <a:ext cx="950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84880" y="4116240"/>
              <a:ext cx="950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65000" y="2494080"/>
              <a:ext cx="260280" cy="477720"/>
            </a:xfrm>
            <a:custGeom>
              <a:avLst/>
              <a:gdLst/>
              <a:ahLst/>
              <a:rect l="l" t="t" r="r" b="b"/>
              <a:pathLst>
                <a:path w="2977" h="7051">
                  <a:moveTo>
                    <a:pt x="137" y="50"/>
                  </a:moveTo>
                  <a:lnTo>
                    <a:pt x="2718" y="6409"/>
                  </a:lnTo>
                  <a:cubicBezTo>
                    <a:pt x="2732" y="6443"/>
                    <a:pt x="2716" y="6482"/>
                    <a:pt x="2682" y="6496"/>
                  </a:cubicBezTo>
                  <a:cubicBezTo>
                    <a:pt x="2648" y="6509"/>
                    <a:pt x="2609" y="6493"/>
                    <a:pt x="2595" y="6459"/>
                  </a:cubicBezTo>
                  <a:lnTo>
                    <a:pt x="14" y="101"/>
                  </a:lnTo>
                  <a:cubicBezTo>
                    <a:pt x="0" y="66"/>
                    <a:pt x="16" y="28"/>
                    <a:pt x="50" y="14"/>
                  </a:cubicBezTo>
                  <a:cubicBezTo>
                    <a:pt x="85" y="0"/>
                    <a:pt x="123" y="16"/>
                    <a:pt x="137" y="50"/>
                  </a:cubicBezTo>
                  <a:close/>
                  <a:moveTo>
                    <a:pt x="2977" y="6160"/>
                  </a:moveTo>
                  <a:lnTo>
                    <a:pt x="2907" y="7051"/>
                  </a:lnTo>
                  <a:lnTo>
                    <a:pt x="2236" y="6461"/>
                  </a:lnTo>
                  <a:lnTo>
                    <a:pt x="2977" y="61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0440" y="2967120"/>
              <a:ext cx="2697120" cy="471240"/>
            </a:xfrm>
            <a:custGeom>
              <a:avLst/>
              <a:gdLst/>
              <a:ahLst/>
              <a:rect l="l" t="t" r="r" b="b"/>
              <a:pathLst>
                <a:path w="15380" h="3491">
                  <a:moveTo>
                    <a:pt x="44" y="4"/>
                  </a:moveTo>
                  <a:lnTo>
                    <a:pt x="15062" y="3277"/>
                  </a:lnTo>
                  <a:cubicBezTo>
                    <a:pt x="15080" y="3281"/>
                    <a:pt x="15091" y="3299"/>
                    <a:pt x="15087" y="3317"/>
                  </a:cubicBezTo>
                  <a:cubicBezTo>
                    <a:pt x="15083" y="3335"/>
                    <a:pt x="15066" y="3346"/>
                    <a:pt x="15048" y="3342"/>
                  </a:cubicBezTo>
                  <a:lnTo>
                    <a:pt x="29" y="69"/>
                  </a:lnTo>
                  <a:cubicBezTo>
                    <a:pt x="11" y="65"/>
                    <a:pt x="0" y="47"/>
                    <a:pt x="4" y="29"/>
                  </a:cubicBezTo>
                  <a:cubicBezTo>
                    <a:pt x="8" y="11"/>
                    <a:pt x="26" y="0"/>
                    <a:pt x="44" y="4"/>
                  </a:cubicBezTo>
                  <a:close/>
                  <a:moveTo>
                    <a:pt x="15032" y="3100"/>
                  </a:moveTo>
                  <a:lnTo>
                    <a:pt x="15380" y="3380"/>
                  </a:lnTo>
                  <a:lnTo>
                    <a:pt x="14947" y="3491"/>
                  </a:lnTo>
                  <a:lnTo>
                    <a:pt x="15032" y="31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68920" y="3425760"/>
              <a:ext cx="276120" cy="463680"/>
            </a:xfrm>
            <a:custGeom>
              <a:avLst/>
              <a:gdLst/>
              <a:ahLst/>
              <a:rect l="l" t="t" r="r" b="b"/>
              <a:pathLst>
                <a:path w="789" h="1715">
                  <a:moveTo>
                    <a:pt x="35" y="13"/>
                  </a:moveTo>
                  <a:lnTo>
                    <a:pt x="727" y="1557"/>
                  </a:lnTo>
                  <a:cubicBezTo>
                    <a:pt x="730" y="1565"/>
                    <a:pt x="727" y="1575"/>
                    <a:pt x="718" y="1579"/>
                  </a:cubicBezTo>
                  <a:cubicBezTo>
                    <a:pt x="710" y="1582"/>
                    <a:pt x="700" y="1579"/>
                    <a:pt x="696" y="1570"/>
                  </a:cubicBezTo>
                  <a:lnTo>
                    <a:pt x="4" y="26"/>
                  </a:lnTo>
                  <a:cubicBezTo>
                    <a:pt x="0" y="18"/>
                    <a:pt x="4" y="8"/>
                    <a:pt x="13" y="4"/>
                  </a:cubicBezTo>
                  <a:cubicBezTo>
                    <a:pt x="21" y="0"/>
                    <a:pt x="31" y="4"/>
                    <a:pt x="35" y="13"/>
                  </a:cubicBezTo>
                  <a:close/>
                  <a:moveTo>
                    <a:pt x="789" y="1492"/>
                  </a:moveTo>
                  <a:lnTo>
                    <a:pt x="779" y="1715"/>
                  </a:lnTo>
                  <a:lnTo>
                    <a:pt x="606" y="1574"/>
                  </a:lnTo>
                  <a:lnTo>
                    <a:pt x="789" y="14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25280" y="4578480"/>
              <a:ext cx="1744560" cy="296640"/>
            </a:xfrm>
            <a:custGeom>
              <a:avLst/>
              <a:gdLst/>
              <a:ahLst/>
              <a:rect l="l" t="t" r="r" b="b"/>
              <a:pathLst>
                <a:path w="9949" h="2184">
                  <a:moveTo>
                    <a:pt x="0" y="0"/>
                  </a:moveTo>
                  <a:cubicBezTo>
                    <a:pt x="0" y="1207"/>
                    <a:pt x="1591" y="2184"/>
                    <a:pt x="3553" y="2184"/>
                  </a:cubicBezTo>
                  <a:lnTo>
                    <a:pt x="5584" y="2184"/>
                  </a:lnTo>
                  <a:cubicBezTo>
                    <a:pt x="7089" y="2184"/>
                    <a:pt x="8432" y="1601"/>
                    <a:pt x="8934" y="728"/>
                  </a:cubicBezTo>
                  <a:lnTo>
                    <a:pt x="9949" y="728"/>
                  </a:lnTo>
                  <a:lnTo>
                    <a:pt x="8122" y="0"/>
                  </a:lnTo>
                  <a:lnTo>
                    <a:pt x="5888" y="728"/>
                  </a:lnTo>
                  <a:lnTo>
                    <a:pt x="6903" y="728"/>
                  </a:lnTo>
                  <a:cubicBezTo>
                    <a:pt x="6525" y="1387"/>
                    <a:pt x="5657" y="1894"/>
                    <a:pt x="4569" y="2093"/>
                  </a:cubicBezTo>
                  <a:lnTo>
                    <a:pt x="4568" y="2093"/>
                  </a:lnTo>
                  <a:cubicBezTo>
                    <a:pt x="3063" y="1817"/>
                    <a:pt x="2031" y="966"/>
                    <a:pt x="203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25280" y="4578480"/>
              <a:ext cx="977760" cy="296640"/>
            </a:xfrm>
            <a:custGeom>
              <a:avLst/>
              <a:gdLst/>
              <a:ahLst/>
              <a:rect l="l" t="t" r="r" b="b"/>
              <a:pathLst>
                <a:path w="5584" h="2184">
                  <a:moveTo>
                    <a:pt x="0" y="0"/>
                  </a:moveTo>
                  <a:cubicBezTo>
                    <a:pt x="0" y="1207"/>
                    <a:pt x="1591" y="2184"/>
                    <a:pt x="3553" y="2184"/>
                  </a:cubicBezTo>
                  <a:lnTo>
                    <a:pt x="5584" y="2184"/>
                  </a:lnTo>
                  <a:cubicBezTo>
                    <a:pt x="3621" y="2184"/>
                    <a:pt x="2031" y="1207"/>
                    <a:pt x="203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5280" y="4578480"/>
              <a:ext cx="1744560" cy="296640"/>
            </a:xfrm>
            <a:custGeom>
              <a:avLst/>
              <a:gdLst/>
              <a:ahLst/>
              <a:rect l="l" t="t" r="r" b="b"/>
              <a:pathLst>
                <a:path w="9949" h="2184">
                  <a:moveTo>
                    <a:pt x="0" y="0"/>
                  </a:moveTo>
                  <a:cubicBezTo>
                    <a:pt x="0" y="1207"/>
                    <a:pt x="1591" y="2184"/>
                    <a:pt x="3553" y="2184"/>
                  </a:cubicBezTo>
                  <a:lnTo>
                    <a:pt x="5584" y="2184"/>
                  </a:lnTo>
                  <a:cubicBezTo>
                    <a:pt x="7089" y="2184"/>
                    <a:pt x="8432" y="1601"/>
                    <a:pt x="8934" y="728"/>
                  </a:cubicBezTo>
                  <a:lnTo>
                    <a:pt x="9949" y="728"/>
                  </a:lnTo>
                  <a:lnTo>
                    <a:pt x="8122" y="0"/>
                  </a:lnTo>
                  <a:lnTo>
                    <a:pt x="5888" y="728"/>
                  </a:lnTo>
                  <a:lnTo>
                    <a:pt x="6903" y="728"/>
                  </a:lnTo>
                  <a:cubicBezTo>
                    <a:pt x="6525" y="1387"/>
                    <a:pt x="5657" y="1894"/>
                    <a:pt x="4569" y="2093"/>
                  </a:cubicBezTo>
                  <a:lnTo>
                    <a:pt x="4568" y="2093"/>
                  </a:lnTo>
                  <a:cubicBezTo>
                    <a:pt x="3063" y="1817"/>
                    <a:pt x="2031" y="966"/>
                    <a:pt x="2031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5200" y="4862520"/>
              <a:ext cx="177840" cy="12600"/>
            </a:xfrm>
            <a:custGeom>
              <a:avLst/>
              <a:gdLst/>
              <a:ahLst/>
              <a:rect l="l" t="t" r="r" b="b"/>
              <a:pathLst>
                <a:path w="112" h="8">
                  <a:moveTo>
                    <a:pt x="112" y="8"/>
                  </a:moveTo>
                  <a:cubicBezTo>
                    <a:pt x="74" y="8"/>
                    <a:pt x="37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006200" y="5210280"/>
              <a:ext cx="5764320" cy="523800"/>
              <a:chOff x="1006200" y="5210280"/>
              <a:chExt cx="5764320" cy="523800"/>
            </a:xfrm>
          </p:grpSpPr>
          <p:sp>
            <p:nvSpPr>
              <p:cNvPr id="382" name=""/>
              <p:cNvSpPr/>
              <p:nvPr/>
            </p:nvSpPr>
            <p:spPr>
              <a:xfrm>
                <a:off x="1006200" y="5210280"/>
                <a:ext cx="5764320" cy="523800"/>
              </a:xfrm>
              <a:custGeom>
                <a:avLst/>
                <a:gdLst/>
                <a:ahLst/>
                <a:rect l="l" t="t" r="r" b="b"/>
                <a:pathLst>
                  <a:path w="16436" h="1936">
                    <a:moveTo>
                      <a:pt x="0" y="0"/>
                    </a:moveTo>
                    <a:cubicBezTo>
                      <a:pt x="0" y="1070"/>
                      <a:pt x="3047" y="1936"/>
                      <a:pt x="6805" y="1936"/>
                    </a:cubicBezTo>
                    <a:cubicBezTo>
                      <a:pt x="6805" y="1936"/>
                      <a:pt x="6805" y="1936"/>
                      <a:pt x="6805" y="1936"/>
                    </a:cubicBezTo>
                    <a:lnTo>
                      <a:pt x="8318" y="1936"/>
                    </a:lnTo>
                    <a:cubicBezTo>
                      <a:pt x="11202" y="1936"/>
                      <a:pt x="13773" y="1419"/>
                      <a:pt x="14734" y="646"/>
                    </a:cubicBezTo>
                    <a:lnTo>
                      <a:pt x="16436" y="646"/>
                    </a:lnTo>
                    <a:lnTo>
                      <a:pt x="14366" y="0"/>
                    </a:lnTo>
                    <a:lnTo>
                      <a:pt x="11520" y="646"/>
                    </a:lnTo>
                    <a:lnTo>
                      <a:pt x="13221" y="646"/>
                    </a:lnTo>
                    <a:cubicBezTo>
                      <a:pt x="12351" y="1345"/>
                      <a:pt x="10153" y="1842"/>
                      <a:pt x="7562" y="1924"/>
                    </a:cubicBezTo>
                    <a:lnTo>
                      <a:pt x="7561" y="1924"/>
                    </a:lnTo>
                    <a:cubicBezTo>
                      <a:pt x="4118" y="1815"/>
                      <a:pt x="1514" y="986"/>
                      <a:pt x="151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06200" y="5210280"/>
                <a:ext cx="2917800" cy="523800"/>
              </a:xfrm>
              <a:custGeom>
                <a:avLst/>
                <a:gdLst/>
                <a:ahLst/>
                <a:rect l="l" t="t" r="r" b="b"/>
                <a:pathLst>
                  <a:path w="16636" h="3872">
                    <a:moveTo>
                      <a:pt x="0" y="0"/>
                    </a:moveTo>
                    <a:cubicBezTo>
                      <a:pt x="0" y="2139"/>
                      <a:pt x="6093" y="3872"/>
                      <a:pt x="13609" y="3872"/>
                    </a:cubicBezTo>
                    <a:cubicBezTo>
                      <a:pt x="13609" y="3872"/>
                      <a:pt x="13609" y="3872"/>
                      <a:pt x="13609" y="3872"/>
                    </a:cubicBezTo>
                    <a:lnTo>
                      <a:pt x="16636" y="3872"/>
                    </a:lnTo>
                    <a:cubicBezTo>
                      <a:pt x="16636" y="3872"/>
                      <a:pt x="16636" y="3872"/>
                      <a:pt x="16636" y="3872"/>
                    </a:cubicBezTo>
                    <a:cubicBezTo>
                      <a:pt x="9120" y="3872"/>
                      <a:pt x="3027" y="2139"/>
                      <a:pt x="302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06200" y="5210280"/>
                <a:ext cx="5764320" cy="523800"/>
              </a:xfrm>
              <a:custGeom>
                <a:avLst/>
                <a:gdLst/>
                <a:ahLst/>
                <a:rect l="l" t="t" r="r" b="b"/>
                <a:pathLst>
                  <a:path w="16436" h="1936">
                    <a:moveTo>
                      <a:pt x="0" y="0"/>
                    </a:moveTo>
                    <a:cubicBezTo>
                      <a:pt x="0" y="1070"/>
                      <a:pt x="3047" y="1936"/>
                      <a:pt x="6805" y="1936"/>
                    </a:cubicBezTo>
                    <a:cubicBezTo>
                      <a:pt x="6805" y="1936"/>
                      <a:pt x="6805" y="1936"/>
                      <a:pt x="6805" y="1936"/>
                    </a:cubicBezTo>
                    <a:lnTo>
                      <a:pt x="8318" y="1936"/>
                    </a:lnTo>
                    <a:cubicBezTo>
                      <a:pt x="11202" y="1936"/>
                      <a:pt x="13773" y="1419"/>
                      <a:pt x="14734" y="646"/>
                    </a:cubicBezTo>
                    <a:lnTo>
                      <a:pt x="16436" y="646"/>
                    </a:lnTo>
                    <a:lnTo>
                      <a:pt x="14366" y="0"/>
                    </a:lnTo>
                    <a:lnTo>
                      <a:pt x="11520" y="646"/>
                    </a:lnTo>
                    <a:lnTo>
                      <a:pt x="13221" y="646"/>
                    </a:lnTo>
                    <a:cubicBezTo>
                      <a:pt x="12351" y="1345"/>
                      <a:pt x="10153" y="1842"/>
                      <a:pt x="7562" y="1924"/>
                    </a:cubicBezTo>
                    <a:lnTo>
                      <a:pt x="7561" y="1924"/>
                    </a:lnTo>
                    <a:cubicBezTo>
                      <a:pt x="4118" y="1815"/>
                      <a:pt x="1514" y="986"/>
                      <a:pt x="151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57240" y="5730840"/>
                <a:ext cx="266760" cy="3240"/>
              </a:xfrm>
              <a:custGeom>
                <a:avLst/>
                <a:gdLst/>
                <a:ahLst/>
                <a:rect l="l" t="t" r="r" b="b"/>
                <a:pathLst>
                  <a:path w="168" h="2">
                    <a:moveTo>
                      <a:pt x="168" y="2"/>
                    </a:moveTo>
                    <a:cubicBezTo>
                      <a:pt x="168" y="2"/>
                      <a:pt x="168" y="2"/>
                      <a:pt x="168" y="2"/>
                    </a:cubicBezTo>
                    <a:cubicBezTo>
                      <a:pt x="112" y="2"/>
                      <a:pt x="56" y="1"/>
                      <a:pt x="0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7794360" y="3884760"/>
              <a:ext cx="485640" cy="490320"/>
            </a:xfrm>
            <a:custGeom>
              <a:avLst/>
              <a:gdLst/>
              <a:ahLst/>
              <a:rect l="l" t="t" r="r" b="b"/>
              <a:pathLst>
                <a:path w="1382" h="1810">
                  <a:moveTo>
                    <a:pt x="32" y="8"/>
                  </a:moveTo>
                  <a:lnTo>
                    <a:pt x="1295" y="1668"/>
                  </a:lnTo>
                  <a:cubicBezTo>
                    <a:pt x="1300" y="1675"/>
                    <a:pt x="1299" y="1686"/>
                    <a:pt x="1292" y="1691"/>
                  </a:cubicBezTo>
                  <a:cubicBezTo>
                    <a:pt x="1284" y="1697"/>
                    <a:pt x="1274" y="1695"/>
                    <a:pt x="1268" y="1688"/>
                  </a:cubicBezTo>
                  <a:lnTo>
                    <a:pt x="5" y="29"/>
                  </a:lnTo>
                  <a:cubicBezTo>
                    <a:pt x="0" y="21"/>
                    <a:pt x="1" y="11"/>
                    <a:pt x="8" y="5"/>
                  </a:cubicBezTo>
                  <a:cubicBezTo>
                    <a:pt x="16" y="0"/>
                    <a:pt x="26" y="1"/>
                    <a:pt x="32" y="8"/>
                  </a:cubicBezTo>
                  <a:close/>
                  <a:moveTo>
                    <a:pt x="1341" y="1591"/>
                  </a:moveTo>
                  <a:lnTo>
                    <a:pt x="1382" y="1810"/>
                  </a:lnTo>
                  <a:lnTo>
                    <a:pt x="1182" y="1712"/>
                  </a:lnTo>
                  <a:lnTo>
                    <a:pt x="1341" y="15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6708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Kantonale Stichproben und Präzis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00000" y="1760400"/>
          <a:ext cx="7993080" cy="4405320"/>
        </p:xfrm>
        <a:graphic>
          <a:graphicData uri="http://schemas.openxmlformats.org/drawingml/2006/table">
            <a:tbl>
              <a:tblPr/>
              <a:tblGrid>
                <a:gridCol w="2119320"/>
                <a:gridCol w="1339920"/>
                <a:gridCol w="1004760"/>
                <a:gridCol w="1006560"/>
                <a:gridCol w="1295640"/>
                <a:gridCol w="12268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OP 2006, 15-Jährige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-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äumliche Einh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werbs-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chpro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 IC (9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8'8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'1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fersee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158'7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'1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'5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'0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e Mittel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37'4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'2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dwestschwe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2'2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7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'8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ür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092'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'1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'3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6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tschwe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'5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'1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ntralschwe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'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'7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'6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WE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'326'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'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Was verstehen wir unter Genauigkeit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025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heis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 solches Resultat bedeut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en Anteil von 10% wird man mit einer Genauigkeit von ±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% schätz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Zufallsfehler, die man bei der Schätzung eines Anteils v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machen wird, werden sehr wahrscheinlich ± 1.2% nicht überschre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r geschätzte Anteil wird sehr wahrscheinlich im Interva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 liegen, das heisst zwischen 8.8% und 11.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gebot des BFS zu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60360" y="1925640"/>
          <a:ext cx="7632720" cy="4202280"/>
        </p:xfrm>
        <a:graphic>
          <a:graphicData uri="http://schemas.openxmlformats.org/drawingml/2006/table">
            <a:tbl>
              <a:tblPr/>
              <a:tblGrid>
                <a:gridCol w="3024360"/>
                <a:gridCol w="4608360"/>
              </a:tblGrid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iterie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ale Aufstock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doppelung der Basisstichpr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stvertragsd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Jah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ginn der Aufstock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ersten Interviews werden im 1. Quartal eines gegebenen Jahres durchgefüh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e der Aufstock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letzten Interviews werden im 4. Quartal eines gegebenen Jahres durchgefüh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meldefr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Januar des Jahres t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tationsschema für die Aufstock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eiches Rotationsschema wie für die Basisstichpr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mögliche Aufstock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Quartal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gebot des BFS zu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222200" y="2050920"/>
            <a:ext cx="746316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Gestaltung d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222200" y="2057400"/>
            <a:ext cx="7462800" cy="1223640"/>
            <a:chOff x="1222200" y="2057400"/>
            <a:chExt cx="7462800" cy="1223640"/>
          </a:xfrm>
        </p:grpSpPr>
        <p:sp>
          <p:nvSpPr>
            <p:cNvPr id="397" name=""/>
            <p:cNvSpPr/>
            <p:nvPr/>
          </p:nvSpPr>
          <p:spPr>
            <a:xfrm>
              <a:off x="7391160" y="2378160"/>
              <a:ext cx="1290600" cy="415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97360" y="2792160"/>
              <a:ext cx="711000" cy="481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4960" y="2057400"/>
              <a:ext cx="18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ittelwert über das Jah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89680" y="2400120"/>
              <a:ext cx="1232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SPOP 2006 - 15 J. und 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1760" y="239544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13080" y="240012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/2 VI (95%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10600" y="2384280"/>
              <a:ext cx="96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rukturerheb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42720" y="2666880"/>
              <a:ext cx="88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äumliche Einhe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69760" y="2666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07320" y="266688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1360" y="254304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800" spc="-1" strike="noStrike">
                  <a:solidFill>
                    <a:srgbClr val="000000"/>
                  </a:solidFill>
                  <a:latin typeface="Arial"/>
                </a:rPr>
                <a:t>Erwerbs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0640" y="266688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800" spc="-1" strike="noStrike">
                  <a:solidFill>
                    <a:srgbClr val="000000"/>
                  </a:solidFill>
                  <a:latin typeface="Arial"/>
                </a:rPr>
                <a:t>uo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83200" y="266688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s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13920" y="2666880"/>
              <a:ext cx="62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fstock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23480" y="266688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13800" y="254304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sis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2720" y="2666880"/>
              <a:ext cx="52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8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3920" y="254304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4640" y="2666880"/>
              <a:ext cx="62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fstock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9160" y="254304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sis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07720" y="266688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79840" y="266688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/2 VI (95%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43800" y="2800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4840" y="280008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48'85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17400" y="2800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40960" y="280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63840" y="2800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68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65320" y="2800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.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0440" y="28000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'1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9120" y="280008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5840" y="280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20360" y="28000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'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40560" y="280008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03440" y="280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54160" y="280008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'1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52280" y="280008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35080" y="280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03600" y="28000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1.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08120" y="28000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1.1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20920" y="280008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'3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5080" y="2800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3000" y="280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80080" y="2800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43800" y="2919240"/>
              <a:ext cx="13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4840" y="291924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1'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17400" y="29192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40960" y="291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3840" y="29192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3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5320" y="29192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9.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10440" y="291924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'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9120" y="291924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15840" y="291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20360" y="291924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'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0560" y="291924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03440" y="291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09240" y="291924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'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51920" y="291924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90520" y="291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03600" y="29192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2.1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08120" y="29192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1.5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6000" y="291924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'6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4720" y="2919240"/>
              <a:ext cx="34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68800" y="291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380080" y="29192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43800" y="3039840"/>
              <a:ext cx="13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1760" y="3039840"/>
              <a:ext cx="43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'092'8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8120" y="303984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7080" y="3039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8400" y="303984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.28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65320" y="30398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9.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55360" y="303984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'1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09480" y="30398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60400" y="3039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17560" y="3039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39840" y="303984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14320" y="3039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54160" y="303984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'1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52280" y="3039840"/>
              <a:ext cx="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35080" y="3039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600" y="30398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0.9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08120" y="30398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0.9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20920" y="303984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4'5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35080" y="30398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3000" y="3039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080" y="303984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8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3800" y="31590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4840" y="315900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8'68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17400" y="315900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0960" y="315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63840" y="315900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4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65320" y="315900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7.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10440" y="315900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'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9120" y="315900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15840" y="315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0360" y="315900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'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40560" y="3159000"/>
              <a:ext cx="37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3440" y="315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9240" y="315900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'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51920" y="315900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90520" y="315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03600" y="315900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1.6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08120" y="315900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± 1.5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6000" y="315900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'8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34720" y="3159000"/>
              <a:ext cx="34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68800" y="315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80080" y="315900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30120" y="2789280"/>
              <a:ext cx="614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30120" y="2789280"/>
              <a:ext cx="6148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30120" y="2909880"/>
              <a:ext cx="614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0120" y="2909880"/>
              <a:ext cx="6148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30120" y="3028680"/>
              <a:ext cx="614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30120" y="3028680"/>
              <a:ext cx="61484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30120" y="3149640"/>
              <a:ext cx="614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30120" y="3149640"/>
              <a:ext cx="6148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9880" y="2378160"/>
              <a:ext cx="0" cy="89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69880" y="2378160"/>
              <a:ext cx="7920" cy="89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9040" y="2378160"/>
              <a:ext cx="0" cy="89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59040" y="2378160"/>
              <a:ext cx="7920" cy="89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0520" y="2378160"/>
              <a:ext cx="0" cy="89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60520" y="2378160"/>
              <a:ext cx="7920" cy="89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91120" y="2378160"/>
              <a:ext cx="0" cy="89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91120" y="2378160"/>
              <a:ext cx="7920" cy="89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78560" y="2378160"/>
              <a:ext cx="7920" cy="89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94400" y="2378160"/>
              <a:ext cx="7920" cy="89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77080" y="2378160"/>
              <a:ext cx="0" cy="89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77080" y="2378160"/>
              <a:ext cx="7920" cy="89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2220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22200" y="2520720"/>
              <a:ext cx="792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2724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27240" y="2520720"/>
              <a:ext cx="792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9268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92680" y="2520720"/>
              <a:ext cx="792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0368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03680" y="2520720"/>
              <a:ext cx="792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8304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83040" y="2520720"/>
              <a:ext cx="828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57880" y="2520720"/>
              <a:ext cx="0" cy="75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57880" y="2520720"/>
              <a:ext cx="7920" cy="75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2320" y="2789280"/>
              <a:ext cx="1282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02320" y="2789280"/>
              <a:ext cx="12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02320" y="2909880"/>
              <a:ext cx="1282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02320" y="2909880"/>
              <a:ext cx="12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02320" y="3028680"/>
              <a:ext cx="1282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02320" y="3028680"/>
              <a:ext cx="128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02320" y="3149640"/>
              <a:ext cx="1282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02320" y="3149640"/>
              <a:ext cx="12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30120" y="3268440"/>
              <a:ext cx="745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30120" y="3268440"/>
              <a:ext cx="74548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222200" y="3857400"/>
            <a:ext cx="7504200" cy="1486080"/>
            <a:chOff x="1222200" y="3857400"/>
            <a:chExt cx="7504200" cy="1486080"/>
          </a:xfrm>
        </p:grpSpPr>
        <p:sp>
          <p:nvSpPr>
            <p:cNvPr id="546" name=""/>
            <p:cNvSpPr/>
            <p:nvPr/>
          </p:nvSpPr>
          <p:spPr>
            <a:xfrm>
              <a:off x="1271880" y="3857400"/>
              <a:ext cx="4536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nterschied zwischen 2 aufeinander folgenden Quartal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61840" y="4257360"/>
              <a:ext cx="1520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POP 2006 - 15 J. und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08240" y="425268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14680" y="4257360"/>
              <a:ext cx="156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/2 VI (95%) von T(t)-T(t-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48840" y="4584600"/>
              <a:ext cx="10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äumliche Einhe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2200" y="4584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8840" y="4584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90840" y="443052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000" spc="-1" strike="noStrike">
                  <a:solidFill>
                    <a:srgbClr val="000000"/>
                  </a:solidFill>
                  <a:latin typeface="Arial"/>
                </a:rPr>
                <a:t>Erwerbs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90480" y="458460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000" spc="-1" strike="noStrike">
                  <a:solidFill>
                    <a:srgbClr val="000000"/>
                  </a:solidFill>
                  <a:latin typeface="Arial"/>
                </a:rPr>
                <a:t>u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07880" y="458460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78280" y="4584600"/>
              <a:ext cx="77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fstock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92320" y="45846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14680" y="44305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i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15040" y="45846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ichpro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93000" y="44305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92280" y="458460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000" spc="-1" strike="noStrike">
                  <a:solidFill>
                    <a:srgbClr val="000000"/>
                  </a:solidFill>
                  <a:latin typeface="Arial"/>
                </a:rPr>
                <a:t>aufstock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49200" y="474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56040" y="4748040"/>
              <a:ext cx="44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48'85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94240" y="47480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38040" y="4748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98080" y="4748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.6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15480" y="4748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.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02440" y="47480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'1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42440" y="47480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4440" y="4748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16840" y="47480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'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11760" y="47480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25480" y="4748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71160" y="4748040"/>
              <a:ext cx="37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'1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27240" y="4748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60720" y="4748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98000" y="47480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2.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49040" y="47480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1.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49200" y="489564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56040" y="4895640"/>
              <a:ext cx="44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'1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94240" y="4895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38040" y="489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98080" y="48956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3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15480" y="48956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9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02440" y="48956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'1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42440" y="4895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84440" y="489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16840" y="48956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'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11760" y="48956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25480" y="489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39200" y="48956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'1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27240" y="48956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30560" y="489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98000" y="48956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3.4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49040" y="48956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2.47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49200" y="504324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63520" y="504324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'092'85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94600" y="50432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69640" y="5043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29320" y="50432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.2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15480" y="50432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9.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34400" y="5043240"/>
              <a:ext cx="37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'1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2440" y="50432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16040" y="5043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38520" y="50432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1760" y="5043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7360" y="5043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71160" y="5043240"/>
              <a:ext cx="37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'1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27240" y="5043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60720" y="5043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98000" y="50432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1.51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49040" y="50432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1.51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48840" y="51908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56040" y="5190840"/>
              <a:ext cx="44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8'6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94240" y="51908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38040" y="5190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98080" y="51908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41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5480" y="51908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7.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02440" y="51908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'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42440" y="51908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84440" y="5190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16840" y="51908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'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1760" y="51908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25480" y="5190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39200" y="51908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'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7240" y="51908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30560" y="5190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98000" y="51908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2.73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49040" y="51908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± 2.5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35200" y="4252680"/>
              <a:ext cx="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5200" y="4252680"/>
              <a:ext cx="9360" cy="10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63840" y="4252680"/>
              <a:ext cx="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63840" y="4252680"/>
              <a:ext cx="9720" cy="10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81240" y="4252680"/>
              <a:ext cx="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81240" y="4252680"/>
              <a:ext cx="9720" cy="10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8040" y="4252680"/>
              <a:ext cx="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88040" y="4252680"/>
              <a:ext cx="9360" cy="10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716680" y="4252680"/>
              <a:ext cx="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716680" y="4252680"/>
              <a:ext cx="9720" cy="10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22200" y="4406760"/>
              <a:ext cx="0" cy="9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22200" y="4406760"/>
              <a:ext cx="9360" cy="9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41680" y="4406760"/>
              <a:ext cx="0" cy="9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41680" y="4406760"/>
              <a:ext cx="9360" cy="9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51280" y="4406760"/>
              <a:ext cx="0" cy="9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51280" y="4406760"/>
              <a:ext cx="11160" cy="9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65680" y="4406760"/>
              <a:ext cx="0" cy="9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65680" y="4406760"/>
              <a:ext cx="11160" cy="9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66000" y="4406760"/>
              <a:ext cx="0" cy="9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6000" y="4406760"/>
              <a:ext cx="9360" cy="9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31560" y="4735440"/>
              <a:ext cx="749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31560" y="4735440"/>
              <a:ext cx="7494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31560" y="4883040"/>
              <a:ext cx="749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31560" y="4883040"/>
              <a:ext cx="7494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31560" y="5030640"/>
              <a:ext cx="749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1560" y="5030640"/>
              <a:ext cx="7494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31560" y="5178240"/>
              <a:ext cx="749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31560" y="5178240"/>
              <a:ext cx="7494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31560" y="5325840"/>
              <a:ext cx="749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31560" y="5325840"/>
              <a:ext cx="7494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Gestaltung d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9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ür di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rbsqu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d di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rbslosenqu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chätzung der Präz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347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 Jahresmitt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347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r Differenz zwischen 2 aufeinanderfolgenden Quartal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347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r Differenz zwischen 2 ähnlichen Quartalen 2er aufeinanderfolgender Jah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347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r Differenz zwischen 2 aufeinanderfolgenden Jahresmittel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öglichkeit, die Präzision mittels Zusatzstichprobe (Aufstockung) zu schä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850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matische Erhebungen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hne «Mobilität und Verkehr»)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äzision und Aufstocku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222200" y="5289480"/>
            <a:ext cx="70948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ilippe Eichen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Schlüssselmerkma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1840" y="2050920"/>
            <a:ext cx="746316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Geographische Merkmale zur räumlichen Lokalisier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Demographische Merkm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rkmale im Bereich der Mig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rkmale im Bereich Arbeitsmarkt und Erwerbstätigkei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rkmale im Bereich der abgeschlossenen Ausbildungsstu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rkmale im Bereich Haushalts- und Familienstrukt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Merkmale im Bereich der Wohnsit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382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Thematische Erh. (</a:t>
            </a:r>
            <a:r>
              <a:rPr b="1" lang="de-DE" sz="2700" spc="-1" strike="noStrike">
                <a:solidFill>
                  <a:srgbClr val="000000"/>
                </a:solidFill>
                <a:latin typeface="Arial"/>
                <a:ea typeface="Arial"/>
              </a:rPr>
              <a:t>≠ «Mobilität und Verkehr»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21840" y="2050560"/>
            <a:ext cx="727236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s- und Weiterbildung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„Gesundheit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„Familie und Generationen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„Sprache, Religion und Kultur 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efoninterviews (CATI); Nettostichprobe: 10’000  Personen (&gt;= 15 J.) in Privathaushal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buNone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65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ale Verteilung der Stichprobe auf die gesamte Schweiz mit leichter Übervertretung des Tessins (= Gross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Thematische Erh.: kantonale Stichprobe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826920" y="1916280"/>
          <a:ext cx="8137800" cy="4689360"/>
        </p:xfrm>
        <a:graphic>
          <a:graphicData uri="http://schemas.openxmlformats.org/drawingml/2006/table">
            <a:tbl>
              <a:tblPr/>
              <a:tblGrid>
                <a:gridCol w="2294280"/>
                <a:gridCol w="1182600"/>
                <a:gridCol w="942840"/>
                <a:gridCol w="1109880"/>
                <a:gridCol w="1036440"/>
                <a:gridCol w="15717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leranzintervall (95%) für 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en / Kant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= 15 J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chp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8'8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fersee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158'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'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e Mitte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437'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'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'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5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dwestschwe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2'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ür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092'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'3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tschwe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'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'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ntralschwe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'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'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WE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'326'0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'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Was verstehen wir unter Genauigkeit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22200" y="2050920"/>
            <a:ext cx="770256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heis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ts val="2599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 solches Resultat bedeut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nen Anteil von 10% wird man mit einer Genauigkeit von ±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% schätz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Zufallsfehler, die man bei der Schätzung eines Anteils v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machen wird, werden sehr wahrscheinlich ± 1.2% nicht überschre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ts val="2599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r geschätzte Anteil wird sehr wahrscheinlich im Interva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± 1.2% liegen, das heisst zwischen 8.8% und 11.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221840" y="2050560"/>
            <a:ext cx="770580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dingungen für die Aufstocku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heitliche Aufstockung im ganzen Kan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ntonale Stichprobe darf nach Aufstockung höchstens 4x so gross sein wie die Basisstichpr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chprobe des Tessins darf nach Aufstockung höchstens 2x so gross sein wie die Basisstichprob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 B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496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40’000 für die gesamte Schwe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1222200" y="1329840"/>
            <a:ext cx="7382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Thematische Erh. (≠ «Mobilität und Verkehr»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22200" y="1330200"/>
            <a:ext cx="76708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trument zur Gestaltung der Aufstocku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258920" y="2712960"/>
            <a:ext cx="7557840" cy="1559160"/>
            <a:chOff x="1258920" y="2712960"/>
            <a:chExt cx="7557840" cy="1559160"/>
          </a:xfrm>
        </p:grpSpPr>
        <p:grpSp>
          <p:nvGrpSpPr>
            <p:cNvPr id="674" name=""/>
            <p:cNvGrpSpPr/>
            <p:nvPr/>
          </p:nvGrpSpPr>
          <p:grpSpPr>
            <a:xfrm>
              <a:off x="1258920" y="2712960"/>
              <a:ext cx="7557840" cy="1559160"/>
              <a:chOff x="1258920" y="2712960"/>
              <a:chExt cx="7557840" cy="1559160"/>
            </a:xfrm>
          </p:grpSpPr>
          <p:sp>
            <p:nvSpPr>
              <p:cNvPr id="675" name=""/>
              <p:cNvSpPr/>
              <p:nvPr/>
            </p:nvSpPr>
            <p:spPr>
              <a:xfrm>
                <a:off x="6057720" y="2867040"/>
                <a:ext cx="275616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06920" y="3184560"/>
                <a:ext cx="898560" cy="309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57720" y="3338640"/>
                <a:ext cx="2756160" cy="1555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06920" y="3492360"/>
                <a:ext cx="898560" cy="620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51320" y="2719440"/>
                <a:ext cx="126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ationale Stichprob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285560" y="2863800"/>
                <a:ext cx="613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Kantone /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285200" y="3019320"/>
                <a:ext cx="901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rossregion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13800" y="2863800"/>
                <a:ext cx="75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SPOP 20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4520" y="3019320"/>
                <a:ext cx="88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 Jahre und 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688920" y="30290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63480" y="302904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81440" y="3029040"/>
                <a:ext cx="77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ufstocku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635440" y="3029040"/>
                <a:ext cx="30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86040" y="30290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911640" y="30290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68480" y="30290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94080" y="30290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544960" y="30290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85920" y="31939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30760" y="319392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48'85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48360" y="319392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06280" y="3193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52280" y="319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86960" y="3193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33560" y="3193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30000" y="31939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65360" y="319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62720" y="31939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62120" y="3193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90600" y="319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60200" y="319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71880" y="3193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71480" y="31939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0.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8520" y="31939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23760" y="31939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9360" y="31939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402040" y="31939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3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85920" y="334944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30760" y="334944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11'1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448360" y="334944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06280" y="3349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52280" y="334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486960" y="33494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33560" y="3349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230000" y="334944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65360" y="3349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662720" y="334944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62120" y="3349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790600" y="334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60200" y="3349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71880" y="3349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71480" y="334944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698520" y="334944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23760" y="334944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3.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9360" y="334944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4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402040" y="334944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5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85560" y="350352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30760" y="350352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27'78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48360" y="350352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06280" y="3503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752280" y="3503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4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486960" y="3503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33560" y="3503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30000" y="35035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38000" y="3503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62720" y="350352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227200" y="3503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90600" y="3503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4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60200" y="3503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771880" y="3503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71480" y="35035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0.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98520" y="35035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23760" y="35035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49360" y="35035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402040" y="35035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3.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85920" y="365760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838240" y="3657600"/>
                <a:ext cx="54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'092'85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448360" y="36576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836440" y="365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57960" y="3657600"/>
                <a:ext cx="30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'6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86960" y="36576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661920" y="365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230000" y="36576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265360" y="36576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62720" y="365760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62120" y="365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98080" y="3657600"/>
                <a:ext cx="30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'6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60560" y="3657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702040" y="365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171480" y="36576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0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698520" y="36576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23760" y="36576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49360" y="36576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402040" y="36576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285560" y="3813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30760" y="381312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84'36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48360" y="381312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06280" y="3813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52280" y="3813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7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86960" y="3813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33560" y="3813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30000" y="38131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65360" y="38131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2720" y="38131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62120" y="3813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790600" y="3813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7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60200" y="3813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771880" y="3813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171480" y="38131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0.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698520" y="38131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8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223760" y="38131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49360" y="38131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3.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02040" y="381312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4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5560" y="396720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30760" y="396720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78'68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448360" y="396720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06280" y="3967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52280" y="3967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86960" y="3967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33560" y="3967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230000" y="39672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238000" y="3967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662720" y="396720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27200" y="3967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698080" y="3967200"/>
                <a:ext cx="30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'6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60560" y="3967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02040" y="3967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171480" y="39672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0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98520" y="39672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23760" y="39672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1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49360" y="39672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02040" y="396720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± 2.5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84840" y="4119480"/>
                <a:ext cx="50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chwei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826000" y="4119480"/>
                <a:ext cx="55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'326'06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48360" y="411948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01520" y="411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583440" y="4119480"/>
                <a:ext cx="38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'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487320" y="41194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57160" y="411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234680" y="411948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1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137560" y="4119480"/>
                <a:ext cx="311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'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63080" y="4119480"/>
                <a:ext cx="45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122440" y="411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621760" y="4119480"/>
                <a:ext cx="38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1'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560560" y="411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597280" y="4119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77600" y="411948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± 0.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03200" y="411948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± 0.4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228800" y="411948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± 0.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754040" y="411948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± 0.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406720" y="4119480"/>
                <a:ext cx="39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± 0.9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65360" y="2719440"/>
                <a:ext cx="258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oleranzintervall für die Schätzung von p =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5892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5892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8752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8752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576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2576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01328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13280" y="2867040"/>
                <a:ext cx="936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60224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602240" y="2867040"/>
                <a:ext cx="936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49900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99000" y="2867040"/>
                <a:ext cx="97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53040" y="2712960"/>
                <a:ext cx="0" cy="46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53040" y="2712960"/>
                <a:ext cx="7920" cy="46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7864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78640" y="2867040"/>
                <a:ext cx="936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10568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10568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3092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3092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156520" y="2867040"/>
                <a:ext cx="0" cy="30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156520" y="2867040"/>
                <a:ext cx="7920" cy="30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808840" y="2712960"/>
                <a:ext cx="0" cy="46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808840" y="2712960"/>
                <a:ext cx="7920" cy="46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5304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5304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0884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80884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5892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25892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8752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8752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42576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42576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1328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3192480"/>
                <a:ext cx="936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0224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02240" y="3192480"/>
                <a:ext cx="936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49900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499000" y="3192480"/>
                <a:ext cx="97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7864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578640" y="3192480"/>
                <a:ext cx="936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0568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0568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3092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3092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156520" y="3192480"/>
                <a:ext cx="0" cy="10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156520" y="3192480"/>
                <a:ext cx="7920" cy="10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258920" y="3174840"/>
              <a:ext cx="75578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66840" y="333360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66840" y="3333600"/>
              <a:ext cx="7549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66840" y="348912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66840" y="3489120"/>
              <a:ext cx="754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66840" y="364320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66840" y="3643200"/>
              <a:ext cx="754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66840" y="379728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266840" y="3797280"/>
              <a:ext cx="7549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66840" y="395280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66840" y="3952800"/>
              <a:ext cx="754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66840" y="410688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66840" y="4106880"/>
              <a:ext cx="7549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266840" y="4262400"/>
              <a:ext cx="75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66840" y="4262400"/>
              <a:ext cx="754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1840" y="1329840"/>
            <a:ext cx="74631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Das integrierte System: </a:t>
            </a:r>
            <a:br>
              <a:rPr sz="2700"/>
            </a:b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Beispiel Arbeit und Erwerb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9616800">
            <a:off x="2023560" y="2421000"/>
            <a:ext cx="1427400" cy="19699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rw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176560" y="3610080"/>
            <a:ext cx="1820880" cy="17510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139840" y="3487680"/>
            <a:ext cx="1917720" cy="19782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 rot="5275800">
            <a:off x="2084760" y="3486600"/>
            <a:ext cx="1990800" cy="198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 rot="2827200">
            <a:off x="2094120" y="3486600"/>
            <a:ext cx="1990800" cy="200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 rot="220800">
            <a:off x="2106360" y="3481200"/>
            <a:ext cx="1990440" cy="197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 rot="18854400">
            <a:off x="2115360" y="3469320"/>
            <a:ext cx="1990800" cy="19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"/>
          <p:cNvSpPr/>
          <p:nvPr/>
        </p:nvSpPr>
        <p:spPr>
          <a:xfrm rot="16200000">
            <a:off x="2121480" y="3485160"/>
            <a:ext cx="1990800" cy="197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1"/>
          <p:cNvSpPr/>
          <p:nvPr/>
        </p:nvSpPr>
        <p:spPr>
          <a:xfrm rot="13612200">
            <a:off x="2109600" y="3484440"/>
            <a:ext cx="1990800" cy="19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2"/>
          <p:cNvSpPr/>
          <p:nvPr/>
        </p:nvSpPr>
        <p:spPr>
          <a:xfrm rot="10417800">
            <a:off x="2079360" y="348552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3"/>
          <p:cNvSpPr/>
          <p:nvPr/>
        </p:nvSpPr>
        <p:spPr>
          <a:xfrm rot="7688400">
            <a:off x="2078280" y="348696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4"/>
          <p:cNvSpPr/>
          <p:nvPr/>
        </p:nvSpPr>
        <p:spPr>
          <a:xfrm>
            <a:off x="2652840" y="4043520"/>
            <a:ext cx="900000" cy="90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asis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 rot="19219200">
            <a:off x="2006640" y="3139920"/>
            <a:ext cx="110016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3081240" y="2684520"/>
            <a:ext cx="1094040" cy="33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3036960" y="4154400"/>
            <a:ext cx="809640" cy="8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989720" y="5018040"/>
            <a:ext cx="546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onenregister von Bund, Kantonen und Gemei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Gebäude- und Wohnungs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922480" y="3821040"/>
            <a:ext cx="14194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278960" y="4302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4158360" y="2787480"/>
            <a:ext cx="31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Thematische Erhebung (SA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2940120" y="2863800"/>
            <a:ext cx="12301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 flipV="1">
            <a:off x="3027240" y="3541680"/>
            <a:ext cx="14511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431960" y="3354480"/>
            <a:ext cx="32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Schlüsselmerkm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In allen Erhebungen 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gemeinsame Merkmale erho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Das integrierte System: </a:t>
            </a:r>
            <a:br>
              <a:rPr sz="2700"/>
            </a:b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Integrationselemen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9616800">
            <a:off x="2007360" y="2430000"/>
            <a:ext cx="1427400" cy="19702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rw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720" y="3619440"/>
            <a:ext cx="1820880" cy="17510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2124000" y="3497400"/>
            <a:ext cx="1917720" cy="1977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5275800">
            <a:off x="2068920" y="3495960"/>
            <a:ext cx="1990800" cy="198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2827200">
            <a:off x="2078280" y="3496320"/>
            <a:ext cx="1990800" cy="200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 rot="220800">
            <a:off x="2090520" y="3490560"/>
            <a:ext cx="1990440" cy="19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/>
          <p:cNvSpPr/>
          <p:nvPr/>
        </p:nvSpPr>
        <p:spPr>
          <a:xfrm rot="18854400">
            <a:off x="2099520" y="3478680"/>
            <a:ext cx="1990800" cy="196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 rot="16200000">
            <a:off x="2105640" y="3494520"/>
            <a:ext cx="1990800" cy="197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 rot="13612200">
            <a:off x="2093400" y="3493800"/>
            <a:ext cx="1990800" cy="19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0417800">
            <a:off x="2063160" y="3495240"/>
            <a:ext cx="1990440" cy="198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3"/>
          <p:cNvSpPr/>
          <p:nvPr/>
        </p:nvSpPr>
        <p:spPr>
          <a:xfrm rot="7688400">
            <a:off x="2062440" y="3496320"/>
            <a:ext cx="1990800" cy="19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2637000" y="4052880"/>
            <a:ext cx="900000" cy="90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asis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 rot="19219200">
            <a:off x="1990800" y="3078000"/>
            <a:ext cx="110016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065400" y="2622600"/>
            <a:ext cx="1093680" cy="33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021120" y="4164120"/>
            <a:ext cx="6984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208960" y="5318280"/>
            <a:ext cx="33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EGID, EWID, Neue AHV-Nu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2994120" y="3549600"/>
            <a:ext cx="11649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4159080" y="3873600"/>
            <a:ext cx="372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isierte Schlüsselmerk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1"/>
          <p:cNvSpPr/>
          <p:nvPr/>
        </p:nvSpPr>
        <p:spPr>
          <a:xfrm rot="19161000">
            <a:off x="2687400" y="3798360"/>
            <a:ext cx="133200" cy="578160"/>
          </a:xfrm>
          <a:custGeom>
            <a:avLst/>
            <a:gdLst>
              <a:gd name="textAreaLeft" fmla="*/ 39240 w 133200"/>
              <a:gd name="textAreaRight" fmla="*/ 133200 w 133200"/>
              <a:gd name="textAreaTop" fmla="*/ 23760 h 578160"/>
              <a:gd name="textAreaBottom" fmla="*/ 554400 h 5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784520" y="39560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AHV-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3"/>
          <p:cNvSpPr/>
          <p:nvPr/>
        </p:nvSpPr>
        <p:spPr>
          <a:xfrm rot="19161000">
            <a:off x="2384280" y="3227040"/>
            <a:ext cx="204840" cy="1184400"/>
          </a:xfrm>
          <a:custGeom>
            <a:avLst/>
            <a:gdLst>
              <a:gd name="textAreaLeft" fmla="*/ 60120 w 204840"/>
              <a:gd name="textAreaRight" fmla="*/ 205200 w 204840"/>
              <a:gd name="textAreaTop" fmla="*/ 49320 h 1184400"/>
              <a:gd name="textAreaBottom" fmla="*/ 1135080 h 11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1840" y="1330200"/>
            <a:ext cx="74631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Die VZ als Teil des Gesamtsystem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4541760"/>
            <a:ext cx="4686120" cy="155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9760" y="2050920"/>
            <a:ext cx="4680000" cy="2368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22200" y="2050920"/>
            <a:ext cx="1872000" cy="23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e Erhebungen im Rahmen der Volkszählung ab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22200" y="4559400"/>
            <a:ext cx="1838520" cy="15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ute bestehende Erheb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76600" y="2257560"/>
            <a:ext cx="3952800" cy="771480"/>
          </a:xfrm>
          <a:prstGeom prst="roundRect">
            <a:avLst>
              <a:gd name="adj" fmla="val 90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erheb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enregister, Gebäude- und Wohnungs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75160" y="3030480"/>
            <a:ext cx="3943080" cy="57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kturerhe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ährliche grosse Stichprobe der Nichtregistermerkm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5160" y="3605040"/>
            <a:ext cx="3948120" cy="576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36000" tIns="36000" bIns="360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hematische Erheb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ität“, „Bildung“, „Gesundheit“, „Familien“, „Sprache, Religion und Kultur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75160" y="4181400"/>
            <a:ext cx="3948120" cy="208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-Omni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5160" y="5521320"/>
            <a:ext cx="3943080" cy="460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ushaltsbudgeterhe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A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75160" y="5064120"/>
            <a:ext cx="39430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nkommen und Lebensbedingungen (SIL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75160" y="4600440"/>
            <a:ext cx="3936960" cy="4604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weiz. Arbeitskräfteerhe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1329840"/>
            <a:ext cx="7669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Thematische Erhebungen im Rahmen der VZ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4628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fonische Stichprobenerhebungen bei 10‘000 - 40‘000 Personen zu den The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Mobilität und Verkehr (40‘000 Pers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: Aus- und Weiterbildung (10‘000 Pers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: Gesundheit (10‘000 Pers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3: Familien und Generationen (10‘000 Pers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: Sprache, Religion und Kultur (10‘000 Pers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2015: Mobilität und 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2016: Aus- und Weiter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.u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7:05Z</dcterms:created>
  <dc:creator>Marco Buscher</dc:creator>
  <dc:description/>
  <dc:language>en-US</dc:language>
  <cp:lastModifiedBy>Christoph Freymond</cp:lastModifiedBy>
  <cp:lastPrinted>2003-11-14T16:51:38Z</cp:lastPrinted>
  <dcterms:modified xsi:type="dcterms:W3CDTF">2008-09-16T09:28:41Z</dcterms:modified>
  <cp:revision>259</cp:revision>
  <dc:subject/>
  <dc:title>Inhaltsverzeichnis Informationsauftrag der Haushalts- und Personenstatistiken (Entwurf)</dc:title>
</cp:coreProperties>
</file>