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57120" indent="-177840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-182520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48320" y="6205680"/>
            <a:ext cx="226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74F0-B026-43C1-9B1E-E1FCDCFD7FD9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25440" y="6140520"/>
            <a:ext cx="7232760" cy="43092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Microrecensment Formation de base et formation continue</a:t>
            </a:r>
            <a:br>
              <a:rPr sz="900"/>
            </a:b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Emanuel von Erl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1285560" y="616284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épartement fédéral de l'intérieur DFI</a:t>
            </a:r>
            <a:br>
              <a:rPr sz="800"/>
            </a:b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Office fédéral de la statistique OF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épartement fédéral de l'intérieur DFI</a:t>
            </a:r>
            <a:br>
              <a:rPr sz="800"/>
            </a:b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Office fédéral de la statistique OF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79280" algn="ctr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58920" algn="ctr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538200" algn="ctr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2349000"/>
            <a:ext cx="742932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Microrecensement F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ormation de base et formation continue </a:t>
            </a:r>
            <a:br>
              <a:rPr sz="3200"/>
            </a:b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Enquête thématiqu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 2011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58560" y="5370480"/>
            <a:ext cx="7429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ance d'information: préparation du RFP2010 et de l'enquête sur la formation de base et formation continue 2011 – 8 octo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manuel von Erl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1412640"/>
            <a:ext cx="7462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Parcours de formation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Séquence de questio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Quelle est l'école ou la formation que vous avez achevée en tout premier lieu après votre scolarité obligatoir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Quand avez-vous achevé cette école ou formation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Quel métier avez-vous appris avec cette école ou formation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Après cette école ou formation, avez-vous achevé une autre formation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Parcours de formation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7561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Parcours de formation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73454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1412640"/>
            <a:ext cx="7462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ctivités de formation en cours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Types de formatio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Formation formelle :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 ensemble des filières de formation de l'école obligatoire, du degré secondaire II et du degré tertiaire </a:t>
            </a:r>
            <a:br>
              <a:rPr sz="2100"/>
            </a:br>
            <a:br>
              <a:rPr sz="2100"/>
            </a:b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Formation non formelle :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 activités basées sur une relation élève-enseignant, mais qui ne sont pas dispensées par le système formel d'éduc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Apprentissage informel :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 activités entreprises dans un but explicite d'apprentissage, mais qui s'effectuent à l'extérieur d'une relation d'enseignemen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5280" y="1557000"/>
            <a:ext cx="7462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ctivité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de formation en cour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5280" y="2421000"/>
            <a:ext cx="7462800" cy="30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Questions caractéristiqu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Au cours des 12 derniers mois avez-vous fréquenté une école ou un cours de formation continu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Au cours des 12 derniers mois avez-vous choisi de vous former à l'aide de méthodes telles que la lecture spécialisée, utilisation d'Internet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ctivités de formation en cours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7417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148428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ctivités de formation en cours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5280" y="2491920"/>
            <a:ext cx="746280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Informations supplémentaires sur les activités de formation en cour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Organisateurs des activités de 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Contenu de la 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Intensité de la 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ctivité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de formation en cour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75614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5280" y="1412640"/>
            <a:ext cx="7462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ctivité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de formation en cour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5280" y="2350800"/>
            <a:ext cx="74628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Questions pour déterminer l'intensité de la formatio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Au cours des 12 derniers mois, combien de semaines étiez-vous effectivement présent au [type de formation, p. ex. Un cours]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Combien d'heures par semaine dure en moyenne ce cours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Vous avez donc consacré environ [nombre de sermaines de formation x nombre d'heures par semaine] à ce cour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ctivités de formation en cours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264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1341360"/>
            <a:ext cx="74628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Thèmes de l'enquê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Précis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Possibilités de densif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148428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Modalités de 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5280" y="2565360"/>
            <a:ext cx="7462800" cy="26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But de la 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Formation pendant ou en dehors des heures de travai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Dépenses liées à la formation et financ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Obstacles à la 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Modalités de 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4898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5280" y="1413000"/>
            <a:ext cx="74628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Modalités de 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Exemple de question sur les obstacles à la formatio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Est-ce que l'une des raisons suivantes explique pourquoi vous n'avez participé à aucune activité de formation continue? (plusieurs réponses possibl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Coûts trop élev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Contraintes famili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Charge de travail trop élevé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- Horaires pas pratiq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- Manque de soutien de l'employe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- Aucune offre de cours approprié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Modalités de 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543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5280" y="155556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Evaluation de la 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2638440"/>
            <a:ext cx="746280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Satisfaction quant à la 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Utilité de la 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Disposition / souhait de continuer à se form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1339560"/>
            <a:ext cx="7462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Evaluation de la 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Exemple de question sur l'utilité de la formatio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Dans quelle mesure votre formation vous a-t-elle fourni une bonne base pour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a. …commencer à travaill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b. …développer vos connaissances sur le ta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c. …remplir vos tâches actuelle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d. …votre future carrière professionnel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e. …votre développement personnel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f.  …dévolopper des compétences utiles dans l'entrepris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Evaluation de la 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2643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148428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Formation et marché du trav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5280" y="2637000"/>
            <a:ext cx="74628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Utilité de la formation dans la vie professionnel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Adéquation de la formation aux exigences de l'activité professionnelle actuell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1485720"/>
            <a:ext cx="7462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Formation et marché du trav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5280" y="2565360"/>
            <a:ext cx="746280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Exemple de question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Selon vous, quel niveau de formation est le plus adapté à votre travail actuel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Selon vous, quel est le domaine de formation le plus approprié pour votre activité professionnel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Dans quelle mesure vos connaissances et vos compétences sont-elles utilisées dans votre activité professionnel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1412640"/>
            <a:ext cx="7462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Informations additionnelles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Variables clé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Statut sur le marché du travai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Informations sociodémographiques (+ Niveau de formation des parent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Informations concernant la migr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Informations sur le mén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Reven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5280" y="141264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Introduction (1/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2565000"/>
            <a:ext cx="746280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Cadre légal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Ordonnance sur le recens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Cadre conceptuel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Programme de relevés du recensement fédéral de la popul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Eurostat Adult Education Surve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1414440"/>
            <a:ext cx="74628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Introduction (2/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Informations de bas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Enquête par échantillonnage (point de départ: 10'000 personnes interrogées avec possibilité d'augmenter ce nombre pour chaque canto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Type d'enquête: entretien téléphoniqu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Population de référence: personnes entre 15 et 74 a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Durée moyenne d'un entretien: 25 minu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Périodicité: dès 2011 tous les 5 a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141264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 (3/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2494080"/>
            <a:ext cx="746280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Changement de systèm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Avant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Module ESPA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1996, 1999, 2003, 2006, 200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Dès 2011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Microrecensement =&gt; enquête monothématique tous les 5 a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1341000"/>
            <a:ext cx="7462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 (4/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Changement de systèm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Avantages du changement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Plus de temps pour la thématiqu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Amélioration des mensurations des concepts cl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Amélioration de la comparabilité internationa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Désavantag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Diminution de la comparabilité des séries temporelles avant 20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1196640"/>
            <a:ext cx="7462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Thè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1989000"/>
            <a:ext cx="770400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403280" y="3068640"/>
            <a:ext cx="1871640" cy="1440000"/>
            <a:chOff x="1403280" y="3068640"/>
            <a:chExt cx="1871640" cy="1440000"/>
          </a:xfrm>
        </p:grpSpPr>
        <p:sp>
          <p:nvSpPr>
            <p:cNvPr id="101" name=""/>
            <p:cNvSpPr/>
            <p:nvPr/>
          </p:nvSpPr>
          <p:spPr>
            <a:xfrm>
              <a:off x="1403280" y="3068640"/>
              <a:ext cx="1871640" cy="287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400" spc="-1" strike="noStrike">
                  <a:solidFill>
                    <a:srgbClr val="000000"/>
                  </a:solidFill>
                  <a:latin typeface="Arial"/>
                </a:rPr>
                <a:t>Préscolari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03280" y="3355920"/>
              <a:ext cx="1871640" cy="287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400" spc="-1" strike="noStrike">
                  <a:solidFill>
                    <a:srgbClr val="000000"/>
                  </a:solidFill>
                  <a:latin typeface="Arial"/>
                </a:rPr>
                <a:t>Ecole obligato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03280" y="3645000"/>
              <a:ext cx="1871640" cy="287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400" spc="-1" strike="noStrike">
                  <a:solidFill>
                    <a:srgbClr val="000000"/>
                  </a:solidFill>
                  <a:latin typeface="Arial"/>
                </a:rPr>
                <a:t>Degré secondaire 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03280" y="3932280"/>
              <a:ext cx="1871640" cy="287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400" spc="-1" strike="noStrike">
                  <a:solidFill>
                    <a:srgbClr val="000000"/>
                  </a:solidFill>
                  <a:latin typeface="Arial"/>
                </a:rPr>
                <a:t>Degré terti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03280" y="4221000"/>
              <a:ext cx="1871640" cy="287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400" spc="-1" strike="noStrike">
                  <a:solidFill>
                    <a:srgbClr val="000000"/>
                  </a:solidFill>
                  <a:latin typeface="Arial"/>
                </a:rPr>
                <a:t>Formation contin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276720" y="2781360"/>
            <a:ext cx="5040360" cy="1728720"/>
            <a:chOff x="3276720" y="2781360"/>
            <a:chExt cx="5040360" cy="1728720"/>
          </a:xfrm>
        </p:grpSpPr>
        <p:sp>
          <p:nvSpPr>
            <p:cNvPr id="107" name=""/>
            <p:cNvSpPr/>
            <p:nvPr/>
          </p:nvSpPr>
          <p:spPr>
            <a:xfrm>
              <a:off x="3276720" y="2781360"/>
              <a:ext cx="936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400" spc="-1" strike="noStrike">
                  <a:solidFill>
                    <a:srgbClr val="000000"/>
                  </a:solidFill>
                  <a:latin typeface="Arial"/>
                </a:rPr>
                <a:t>Elè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13440" y="2781360"/>
              <a:ext cx="100800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400" spc="-1" strike="noStrike">
                  <a:solidFill>
                    <a:srgbClr val="000000"/>
                  </a:solidFill>
                  <a:latin typeface="Arial"/>
                </a:rPr>
                <a:t>Diplô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21440" y="2781360"/>
              <a:ext cx="863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400" spc="-1" strike="noStrike">
                  <a:solidFill>
                    <a:srgbClr val="000000"/>
                  </a:solidFill>
                  <a:latin typeface="Arial"/>
                </a:rPr>
                <a:t>Personn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85080" y="2781360"/>
              <a:ext cx="10810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400" spc="-1" strike="noStrike">
                  <a:solidFill>
                    <a:srgbClr val="000000"/>
                  </a:solidFill>
                  <a:latin typeface="Arial"/>
                </a:rPr>
                <a:t>Instit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66160" y="2781360"/>
              <a:ext cx="11509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400" spc="-1" strike="noStrike">
                  <a:solidFill>
                    <a:srgbClr val="000000"/>
                  </a:solidFill>
                  <a:latin typeface="Arial"/>
                </a:rPr>
                <a:t>Financ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76720" y="3357720"/>
              <a:ext cx="50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76720" y="3646440"/>
              <a:ext cx="50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76720" y="3933720"/>
              <a:ext cx="50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4222800"/>
              <a:ext cx="50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76720" y="4510080"/>
              <a:ext cx="50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17080" y="307008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1440" y="307008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13440" y="307008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85080" y="307008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66160" y="307008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403280" y="2781360"/>
            <a:ext cx="1871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Système de formation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1840" y="2133720"/>
            <a:ext cx="390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MRF et Statistique de l'é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79640" y="5229360"/>
            <a:ext cx="187164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Capital hu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229360"/>
            <a:ext cx="25905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Formation et Marché du trav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068640"/>
            <a:ext cx="5040360" cy="115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Relevé des données administratives ou 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données de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4360" y="3500280"/>
            <a:ext cx="1152720" cy="1801800"/>
          </a:xfrm>
          <a:prstGeom prst="ellipse">
            <a:avLst/>
          </a:prstGeom>
          <a:solidFill>
            <a:srgbClr val="ffff99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Z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56000" y="3573360"/>
            <a:ext cx="3311280" cy="2448000"/>
          </a:xfrm>
          <a:prstGeom prst="ellipse">
            <a:avLst/>
          </a:prstGeom>
          <a:solidFill>
            <a:srgbClr val="ffff99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Z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141264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Thè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52520" y="2494080"/>
            <a:ext cx="74628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Parcours de 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Activités de formation en cou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Modalités de 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Evaluation de la 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Formation et marché du travai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413000"/>
            <a:ext cx="74628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Parcours de formation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Formation achevée la plus élevé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Nombre de formations achevé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Profession(s) apprise(s) et/ou filière(s) choisie(s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Formations formelles temporairement ou définitivement interrompu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Changements survenus dans le parcours de format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Deuxième formation ou reconversion professionnelle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4:40:08Z</dcterms:created>
  <dc:creator>Emanuel von Erlach</dc:creator>
  <dc:description/>
  <dc:language>en-US</dc:language>
  <cp:lastModifiedBy>Sonia Donzé</cp:lastModifiedBy>
  <dcterms:modified xsi:type="dcterms:W3CDTF">2009-10-06T07:25:40Z</dcterms:modified>
  <cp:revision>26</cp:revision>
  <dc:subject/>
  <dc:title>Mikrozensus Aus- und Weiterbildung</dc:title>
</cp:coreProperties>
</file>