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6C85-DCE9-4058-9FEA-1FE54DD93773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ikrozensus Aus- und Weiterbildung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Emanuel von Erl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2168280"/>
            <a:ext cx="7429320" cy="27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ikrozensus Aus- und Weiterbildung</a:t>
            </a:r>
            <a:br>
              <a:rPr sz="4000"/>
            </a:b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Thematische Erhebung 201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5541480"/>
            <a:ext cx="742968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anuel von Erl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ldungslaufbah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ragesequenz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elche Schule oder Ausbildung haben Sie nach der obligatorischen Schule als erstes abgeschloss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ann haben Sie die Schule oder Ausbildung abgeschloss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elchen Beruf haben Sie erlern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Haben Sie nach Abschluss von Ihrer ersten Ausbildung noch eine weitere Ausbildung abgeschloss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ldungslaufbah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7200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ldungslaufbah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762200"/>
            <a:ext cx="7056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5240" y="2276640"/>
            <a:ext cx="7462800" cy="37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rt der Bildungsaktivitä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ormale Bildung: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Bildungsgänge der oblig. Schule, der Sekundarstufe II und der Tertiärstuf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Nicht-formale Bildung: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Lernaktivitäten im Rahmen einer Schüler-Lehrer-Beziehung ausserhalb des formalen Bildungssyste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elles Lernen: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Aktivitäten, die explizit einem Lernziel dienen, aber ausserhalb einer Lernbeziehung stattfinde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2493720"/>
            <a:ext cx="74628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Typische Frag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Haben Sie in den letzten 12 Monaten eine Schule oder einen Weiterbildungskurs besuch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Haben Sie sich in den letzten 12 Monaten auf einem bestimmten Gebiet selbst etwas beigebracht, wie zum Beispiel [durch das Lesen von Fachliteratur, durch Nutzung von Internet, etc.]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597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422440"/>
            <a:ext cx="746280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Zusätzliche Informationen zu laufenden Bildungsaktivität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anstalter der Aus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Inhalt der Aus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Intensität der Aus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129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2206800"/>
            <a:ext cx="7462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ragen zur Ermittlung der Intensität der Bildu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ährend wie vielen Wochen haben Sie in den letzten 12 Monaten [Ausbildungstyp, z.B. den Kurs] besuch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ie viele Kursstunden oder Lektionen pro Woche sind das im Durchschnitt gewes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ie haben also im Laufe von einem Jahr ca. [Anzahl Wochen Ausbildung x Lektionen pro Woche] in die Ausbildung investier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262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Themen der Erheb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Genauigke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dichtungsmöglichkei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Zeit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Rahmenbedingungen von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2637000"/>
            <a:ext cx="746280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Zweck der Aus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sbildung während oder ausserhalb der Arbeitsze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sbildungsausgaben und ihre Finanzier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sbildungshindernis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Rahmenbedingungen von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5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Rahmenbedingungen von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ragebeispiel zu Ausbildungshinderniss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agen Sie mir bitte zu jedem Punkt, ob das in den letzten 12 Monate bei Ihnen persönlich ein zutreffender Grund war, nicht an Weiterbildung teilzunehm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zu hohen Kurskos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amiliärer Beanspruch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eruflicher Belast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ungünstigen Kurszei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mangelnder Unterstützung des Arbeitgeb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keine passenden Kursangeb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Rahmenbedingungen von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329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stellungen zu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709360"/>
            <a:ext cx="7462800" cy="25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Zufriedenheit mit der Aus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Nutzen der Aus- und Weiter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ereitschaft/Wunsch sich weiter zu bi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stellungen zu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ragebeispiel zum Nutzen der Ausbildu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In welchem Masse war Ihre Ausbildung eine gute Grundlage.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. …für den Berufseinstieg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. …um sich im Rahmen der Erwerbstätigkeit weiterzubild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. …um Ihre gegenwärtigen Arbeitsaufgaben zu erfüll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. …für Ihre zukünftige Karrie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. …für Ihre persönliche Entwicklung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.  …für die Entwicklung unternehmerischer Fähigkeit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stellungen zu 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62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ldung und Arbeitsmark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2854440"/>
            <a:ext cx="746280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Nutzen der Ausbildung für das Erwerbsleb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Übereinstimmung der Ausbildung mit den Erfordernissen der aktuellen St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148572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ldung und Arbeitsmark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2421000"/>
            <a:ext cx="74628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ragebeispie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Welcher Abschluss ist Ihrer Meinung nach am besten geeignet für ihre aktuelle Erwerbstätigke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Welche Ausbildung/ welches Studienfach passte Ihrer Meinung nach am besten für diese Erwerbstätigke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Inwieweit können Sie Ihre Kenntnisse und Kompetenzen im Rahmen dieser Erwerbstätigkeit einsetz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148572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Zusätzliche Inform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2278080"/>
            <a:ext cx="7462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chlüsselmerkma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rbeitsmarktsta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oziodemographische Merkmale (+ Bildungsstand Elter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Informationen zur Mig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Informationen zum Haushal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inkom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leitung (1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2566800"/>
            <a:ext cx="74628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Rechtliche Rahmenbedingung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ordnung über die eidgenössische Volkszähl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haltliche Rahmenbedingung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rhebungsprogramm der eidgenössischen Volkszählu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dult Education Survey von Eurost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leitung (2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ckdat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tichprobenerhebung (Ausgangspunkt: 10‘000 Befragte mit Aufstockungsmöglichkeiten für die Kanton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rhebungsart: Telefoninter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Referenzbevölkerung: Personen 15-7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ittlere Dauer eines Interviews: 25 Minu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Periodizität: ab 2011 alle 5 Jah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leitung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(3/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1520" y="2312640"/>
            <a:ext cx="74628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ystemwechse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orher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AKE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1996, 1999, 2003, 2006, 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Nach 201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ikrozensus =&gt; Monothematische Erhebung alle 5 Jah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leitung (4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278080"/>
            <a:ext cx="746280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ystemwechse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orteil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ehr Zeit für die Themat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besserung der Messung der Konzep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besserung der internationalen Vergleichbarke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eeinträchtigung der intertemporalen Vergleichbarke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989000"/>
            <a:ext cx="77040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03280" y="3068640"/>
            <a:ext cx="1871640" cy="1440000"/>
            <a:chOff x="1403280" y="3068640"/>
            <a:chExt cx="1871640" cy="1440000"/>
          </a:xfrm>
        </p:grpSpPr>
        <p:sp>
          <p:nvSpPr>
            <p:cNvPr id="101" name=""/>
            <p:cNvSpPr/>
            <p:nvPr/>
          </p:nvSpPr>
          <p:spPr>
            <a:xfrm>
              <a:off x="1403280" y="306864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Vorsch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03280" y="335592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Obligatorische Sch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3280" y="364500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Sekundarstufe 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3932280"/>
              <a:ext cx="187164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Tertiärstu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4221000"/>
              <a:ext cx="1871640" cy="287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Weiterbild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76720" y="2781360"/>
            <a:ext cx="5040360" cy="1728720"/>
            <a:chOff x="3276720" y="2781360"/>
            <a:chExt cx="5040360" cy="1728720"/>
          </a:xfrm>
        </p:grpSpPr>
        <p:sp>
          <p:nvSpPr>
            <p:cNvPr id="107" name=""/>
            <p:cNvSpPr/>
            <p:nvPr/>
          </p:nvSpPr>
          <p:spPr>
            <a:xfrm>
              <a:off x="3276720" y="2781360"/>
              <a:ext cx="936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Lernen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3440" y="2781360"/>
              <a:ext cx="1008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Abschlü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1440" y="2781360"/>
              <a:ext cx="8636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85080" y="2781360"/>
              <a:ext cx="1081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Institution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6160" y="2781360"/>
              <a:ext cx="1150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Finanzier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720" y="33577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364644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39337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22280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6720" y="451008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1708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144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344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508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66160" y="30700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03280" y="2781360"/>
            <a:ext cx="1871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Bildung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8240" y="2133720"/>
            <a:ext cx="64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Z Aus- und Weiterbildung als Teil der Bildungsstatis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5229360"/>
            <a:ext cx="18716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Humanka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5229360"/>
            <a:ext cx="216072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Bildung und Arbeitsmar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068640"/>
            <a:ext cx="504036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rhebung von Administrativ- und Registerdaten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500280"/>
            <a:ext cx="1152720" cy="1801800"/>
          </a:xfrm>
          <a:prstGeom prst="ellipse">
            <a:avLst/>
          </a:prstGeom>
          <a:solidFill>
            <a:srgbClr val="ffff99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Z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3573360"/>
            <a:ext cx="3311280" cy="2448000"/>
          </a:xfrm>
          <a:prstGeom prst="ellipse">
            <a:avLst/>
          </a:prstGeom>
          <a:solidFill>
            <a:srgbClr val="ffff99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Z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he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3440" y="2385720"/>
            <a:ext cx="746280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ildungslaufbahn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Laufende Bildungsaktivitä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Rahmenbedingungen von 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instellungen zu 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ildung und Arbeitsmark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ldungslaufbah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Höchste abgeschlossene Ausbild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nzahl abgeschlossene Ausbildu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rlernter Beruf, Fachrichtung des Studiu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nterbrochene oder abgebrochene Ausbildu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echsel in der Bildungslaufbah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Zweiter Bildungswe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4:40:08Z</dcterms:created>
  <dc:creator>Emanuel von Erlach</dc:creator>
  <dc:description/>
  <dc:language>en-US</dc:language>
  <cp:lastModifiedBy>Sonia Donzé</cp:lastModifiedBy>
  <dcterms:modified xsi:type="dcterms:W3CDTF">2009-10-06T08:05:33Z</dcterms:modified>
  <cp:revision>18</cp:revision>
  <dc:subject/>
  <dc:title>Mikrozensus Aus- und Weiterbildung</dc:title>
</cp:coreProperties>
</file>