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16D6-A7A9-4ED5-8B75-8F8F606B0BF0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01760" y="6140520"/>
            <a:ext cx="708012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Microrecensement Formation de base et formation continue: Précision et densification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Text Box 6"/>
          <p:cNvSpPr/>
          <p:nvPr/>
        </p:nvSpPr>
        <p:spPr>
          <a:xfrm>
            <a:off x="4716360" y="476280"/>
            <a:ext cx="3581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Header_ppt_705-2-f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716360" y="404640"/>
            <a:ext cx="3581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" descr="Header_ppt_705-2-f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1640" y="2457000"/>
            <a:ext cx="75610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Microrecensement Formation de base et formation continue: </a:t>
            </a:r>
            <a:br>
              <a:rPr sz="3600"/>
            </a:b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écision et den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37840" y="5516640"/>
            <a:ext cx="7381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éanc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'informati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préparation du RFP2010 et d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'enquêt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sur la formation de base et la formation continue 2011 - 8 octobre 2009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0480" y="1557000"/>
            <a:ext cx="64198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aractéristiques de l'enquê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3336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8560" indent="0">
              <a:lnSpc>
                <a:spcPct val="10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terviews par téléphone (CA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Echantillon net de 10'000 personnes de 15 à 74 ans, vivant dans des ménages priv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Répartition proportionnelle de l'échantillon sur la Suisse avec une légère surreprésentation du Tessin (= grande ré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buNone/>
              <a:tabLst>
                <a:tab algn="l" pos="0"/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3760" y="1484280"/>
            <a:ext cx="748836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chantillons cantonau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2398680"/>
            <a:ext cx="81374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684036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omment comprendre la préci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342000" indent="0">
              <a:lnSpc>
                <a:spcPts val="2599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Que veut dir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0">
              <a:lnSpc>
                <a:spcPts val="2599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Cela signif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-340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On peut estimer une proportion de 10% avec une précision de ± 1.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0">
              <a:lnSpc>
                <a:spcPts val="20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-340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Les erreurs aléatoires que l'on va commettre lors de l'estimation d'une proportion de 10% ne vont (presque certainement) pas dépasser ± 1.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-340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La proportion estimée sera presque certainement comprise dans l'intervalle 10% ± 1.2%, c.-à-d. entre 8.8% et 11.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840" y="1483920"/>
            <a:ext cx="6734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onditions de dens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2276640"/>
            <a:ext cx="77058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Densification uniforme sur tout le can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u total, un échantillon cantonal après densification ne peut pas dépasser 2% de la population concerné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u maximum 40'000 personnes pour toute la Su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4120" y="1557000"/>
            <a:ext cx="7056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Outil pour définir la densification (1/2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2090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7360" y="1566720"/>
            <a:ext cx="6553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Outil pour définir la densification (2/2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813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0:01:36Z</dcterms:created>
  <dc:creator>Philippe Eichenberger</dc:creator>
  <dc:description/>
  <dc:language>en-US</dc:language>
  <cp:lastModifiedBy>Philippe Eichenberger</cp:lastModifiedBy>
  <cp:lastPrinted>2003-11-14T16:51:38Z</cp:lastPrinted>
  <dcterms:modified xsi:type="dcterms:W3CDTF">2009-10-07T12:54:27Z</dcterms:modified>
  <cp:revision>75</cp:revision>
  <dc:subject/>
  <dc:title>Aussagefähigkeit der Strukturerhebung</dc:title>
</cp:coreProperties>
</file>