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95280" y="119700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119700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3049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57120" indent="-177840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-182520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48320" y="6205680"/>
            <a:ext cx="226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ACB1-D3DE-47D0-B139-0FBED13E22C1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301760" y="6140520"/>
            <a:ext cx="7080120" cy="43092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Mikrozensus Aus- und Weiterbildung: Präzision und Aufstockung</a:t>
            </a:r>
            <a:br>
              <a:rPr sz="900"/>
            </a:b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hilippe </a:t>
            </a: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Eichenberg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1285560" y="6162840"/>
            <a:ext cx="74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idgenössisches Departement des Innern EDI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ndesamt für Statistik B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idgenössisches Departement des Innern EDI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ndesamt für Statistik B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79280" algn="ctr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58920" algn="ctr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538200" algn="ctr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538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538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87000" y="2566800"/>
            <a:ext cx="7885080" cy="19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400" spc="-1" strike="noStrike">
                <a:solidFill>
                  <a:srgbClr val="000000"/>
                </a:solidFill>
                <a:latin typeface="Arial"/>
              </a:rPr>
              <a:t>Mikrozensus Aus- und Weiterbildung:</a:t>
            </a:r>
            <a:br>
              <a:rPr sz="3400"/>
            </a:br>
            <a:r>
              <a:rPr b="1" lang="de-CH" sz="3400" spc="-1" strike="noStrike">
                <a:solidFill>
                  <a:srgbClr val="000000"/>
                </a:solidFill>
                <a:latin typeface="Arial"/>
              </a:rPr>
              <a:t>Präzision und Aufstockung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32000" y="5586120"/>
            <a:ext cx="748800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ormationsveranstaltung: Vorbereitung der VZ2010 und der Erhebung Aus- und Weiterbildung 2011 – 8. Okto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hilippe Eichenb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1557000"/>
            <a:ext cx="5761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Merkmale der Erheb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8560" y="2493720"/>
            <a:ext cx="7272360" cy="31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35800" indent="0">
              <a:lnSpc>
                <a:spcPct val="100000"/>
              </a:lnSpc>
              <a:buNone/>
              <a:tabLst>
                <a:tab algn="l" pos="465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5800" indent="-2358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65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Telefonische Interviews (CAT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5800" indent="0">
              <a:lnSpc>
                <a:spcPct val="110000"/>
              </a:lnSpc>
              <a:buNone/>
              <a:tabLst>
                <a:tab algn="l" pos="465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5800" indent="-2358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65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Nettostichprobe von 10’000 Personen (15-74 Jahre) in Privathaushal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5800" indent="0">
              <a:lnSpc>
                <a:spcPct val="110000"/>
              </a:lnSpc>
              <a:buNone/>
              <a:tabLst>
                <a:tab algn="l" pos="465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5800" indent="-2358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65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Proportionale Verteilung der Stichprobe auf die Schweiz mit einer leichten Übervertretung des Kantons Tessin </a:t>
            </a:r>
            <a:br>
              <a:rPr sz="2200"/>
            </a:b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(= Grossreg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5800" indent="0">
              <a:lnSpc>
                <a:spcPct val="100000"/>
              </a:lnSpc>
              <a:buNone/>
              <a:tabLst>
                <a:tab algn="l" pos="0"/>
                <a:tab algn="l" pos="465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3440" y="1411200"/>
            <a:ext cx="496728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antonale Stichprob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8209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1125000"/>
            <a:ext cx="74628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Was verstehen wir unter Genauigkei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55760" y="1844640"/>
            <a:ext cx="7176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lvl="1" marL="342000" indent="0">
              <a:lnSpc>
                <a:spcPts val="2599"/>
              </a:lnSpc>
              <a:spcBef>
                <a:spcPts val="825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Was heisst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  <a:ea typeface="Arial"/>
              </a:rPr>
              <a:t>10% ± 1.2%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2000" indent="0">
              <a:lnSpc>
                <a:spcPts val="2599"/>
              </a:lnSpc>
              <a:spcBef>
                <a:spcPts val="825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  <a:ea typeface="Arial"/>
              </a:rPr>
              <a:t>Ein solches Resultat bedeut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2000" indent="-340920">
              <a:lnSpc>
                <a:spcPts val="2599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  <a:ea typeface="Arial"/>
              </a:rPr>
              <a:t>Einen Anteil von 10% wird man mit einer Genauigkeit von ± 1.2% schätzen kö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200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2000" indent="-340920">
              <a:lnSpc>
                <a:spcPts val="2599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  <a:ea typeface="Arial"/>
              </a:rPr>
              <a:t>Die Zufallsfehler, die man bei der Schätzung eines Anteils von 10% machen wird, werden sehr wahrscheinlich ± 1.2% nicht überschre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200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2000" indent="-340920">
              <a:lnSpc>
                <a:spcPts val="2599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  <a:ea typeface="Arial"/>
              </a:rPr>
              <a:t>Der geschätzte Anteil wird sehr wahrscheinlich im Intervall 10% ± 1.2% liegen, das heisst zwischen 8.8% et 11.2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3480" y="1483920"/>
            <a:ext cx="6157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Bedingungen für die Aufstock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69480" y="2494080"/>
            <a:ext cx="770580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65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Einheitliche Aufstockung für das gesamte Kantonsgebi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6532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Insgesamt darf die Stichprobe nach der Aufstockung nicht mehr als 2% der Referenzbevölkerung betra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6532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Die max. Gesamtstichprobe für die Schweiz beträgt 40’000 Perso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06080" y="1630080"/>
            <a:ext cx="777708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500" spc="-1" strike="noStrike">
                <a:solidFill>
                  <a:srgbClr val="000000"/>
                </a:solidFill>
                <a:latin typeface="Arial"/>
              </a:rPr>
              <a:t>Instrument zur Simulation einer Aufstockung (1/2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8280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21920" y="1485720"/>
            <a:ext cx="7713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500" spc="-1" strike="noStrike">
                <a:solidFill>
                  <a:srgbClr val="000000"/>
                </a:solidFill>
                <a:latin typeface="Arial"/>
              </a:rPr>
              <a:t>Instrument zur Simulation einer Aufstockung (2/2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55640" y="2494080"/>
            <a:ext cx="8209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0:01:36Z</dcterms:created>
  <dc:creator>Philippe Eichenberger</dc:creator>
  <dc:description/>
  <dc:language>en-US</dc:language>
  <cp:lastModifiedBy>Philippe Eichenberger</cp:lastModifiedBy>
  <cp:lastPrinted>2003-11-14T16:51:38Z</cp:lastPrinted>
  <dcterms:modified xsi:type="dcterms:W3CDTF">2009-10-07T12:55:35Z</dcterms:modified>
  <cp:revision>70</cp:revision>
  <dc:subject/>
  <dc:title>Aussagefähigkeit der Strukturerhebung</dc:title>
</cp:coreProperties>
</file>