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0738-3614-48A7-A221-202AF9DB5EF1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Mikrozensus Aus- und Weiterbildung MZB 2011 - Rahmenbedingungen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Michel Ko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6720" y="2527200"/>
            <a:ext cx="77389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0000"/>
                </a:solidFill>
                <a:latin typeface="Arial"/>
              </a:rPr>
              <a:t>Mikrozensus Aus- und Weiterbildung MZB 2011</a:t>
            </a:r>
            <a:br>
              <a:rPr sz="4400"/>
            </a:b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Rahmenbedingungen (Termine/Koste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5734080"/>
            <a:ext cx="74296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sveranstaltung: Vorbereitung der VZ2010 und der Erhebung Aus- und Weiterbildung 2011 – 8. Ok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el Ko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5560" y="1485720"/>
            <a:ext cx="7389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1. Methodik und Neuigkeiten des MZB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276640"/>
            <a:ext cx="763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ichprobenziehung im neuen Personenregister SRP(H)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=&gt; (Ziehung von Personen; z.B. 15-74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irekte Kontaktierung der zu befragenden Person via ausgewähltem Haush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ntegration von Registermerkmalen in die Erhebung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=&gt; (Geschlecht, Geburtsdatum, Nationalität u.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llständige Umsetzung der Schlüsselmerkmal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siehe Erhebungsprogramm Volkszähl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6920" y="1125000"/>
            <a:ext cx="5905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2. Zeitplan MZB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85080" y="4941720"/>
            <a:ext cx="1511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ez. 2012</a:t>
            </a:r>
            <a:br>
              <a:rPr sz="1200"/>
            </a:b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Erste 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284720" y="2857680"/>
            <a:ext cx="1928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Jan.-Dez.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Haupterhe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188424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411624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641988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6819840" y="3699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Connecteur droit avec flèche 26"/>
          <p:cNvCxnSpPr/>
          <p:nvPr/>
        </p:nvCxnSpPr>
        <p:spPr>
          <a:xfrm>
            <a:off x="856800" y="3714840"/>
            <a:ext cx="8001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Rectangle 31"/>
          <p:cNvSpPr/>
          <p:nvPr/>
        </p:nvSpPr>
        <p:spPr>
          <a:xfrm>
            <a:off x="4143240" y="3429000"/>
            <a:ext cx="2229120" cy="117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3000240" y="3429000"/>
            <a:ext cx="490680" cy="133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Flèche vers le bas 33" descr=""/>
          <p:cNvPicPr/>
          <p:nvPr/>
        </p:nvPicPr>
        <p:blipFill>
          <a:blip r:embed="rId1"/>
          <a:stretch/>
        </p:blipFill>
        <p:spPr>
          <a:xfrm>
            <a:off x="2408400" y="3906720"/>
            <a:ext cx="29880" cy="536760"/>
          </a:xfrm>
          <a:prstGeom prst="rect">
            <a:avLst/>
          </a:prstGeom>
          <a:ln w="0">
            <a:noFill/>
          </a:ln>
        </p:spPr>
      </p:pic>
      <p:pic>
        <p:nvPicPr>
          <p:cNvPr id="101" name="Flèche vers le bas 35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255600" cy="1043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8"/>
          <p:cNvSpPr/>
          <p:nvPr/>
        </p:nvSpPr>
        <p:spPr>
          <a:xfrm>
            <a:off x="2195640" y="414972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. Quartal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eginn der Arbeit be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efragungsinstit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Fragebogenpf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Fragebogenumsetz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für CATI-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8572680" y="3571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6443640" y="4005360"/>
            <a:ext cx="178272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443640" y="4143240"/>
            <a:ext cx="1800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b Jan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atenaufbereitung (SD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uswertu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lèche vers le bas 47"/>
          <p:cNvSpPr/>
          <p:nvPr/>
        </p:nvSpPr>
        <p:spPr>
          <a:xfrm>
            <a:off x="8245440" y="2643120"/>
            <a:ext cx="214200" cy="10000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Flèche vers le bas 48" descr=""/>
          <p:cNvPicPr/>
          <p:nvPr/>
        </p:nvPicPr>
        <p:blipFill>
          <a:blip r:embed="rId3"/>
          <a:stretch/>
        </p:blipFill>
        <p:spPr>
          <a:xfrm>
            <a:off x="8332920" y="3760920"/>
            <a:ext cx="257040" cy="1042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7524720" y="191628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b Dez. 2012</a:t>
            </a:r>
            <a:br>
              <a:rPr sz="1200"/>
            </a:b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Datenabgabe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(Verdich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875120" y="3716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2844720" y="3716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Flèche vers le bas 35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255600" cy="1043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8"/>
          <p:cNvSpPr/>
          <p:nvPr/>
        </p:nvSpPr>
        <p:spPr>
          <a:xfrm>
            <a:off x="612720" y="5013360"/>
            <a:ext cx="165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. Quartal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Fragebogen-bereinig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(Detailkonzept MZB 20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989000"/>
            <a:ext cx="0" cy="1656000"/>
          </a:xfrm>
          <a:prstGeom prst="line">
            <a:avLst/>
          </a:prstGeom>
          <a:ln w="1522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124000" y="2637000"/>
            <a:ext cx="1932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ug/Sept.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retes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Befragungsinstit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627280" y="1700280"/>
            <a:ext cx="1932120" cy="576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31. Mär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Meldung Aufstoc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8560" y="1329840"/>
            <a:ext cx="72738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3. Bedingungen für eine Aufstock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7273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1720" indent="-35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ufstockungsart: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antonsgebiet gleichmä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ax. Stichprobengrösse: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Bundesstichprobe 10‘000 Personen =&gt; Aufstockung bis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40’000 Personen für die Schweiz insgesamt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Bestellungen bis im 31. März 2010: 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9 Monate vor Erhebungsbeginn, Volkszählungsverordnung Art.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osten pro zusätzliches Interview MZB 2011: CHF 71.- (inkl. MW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51:12Z</dcterms:created>
  <dc:creator>Sonia Donzé</dc:creator>
  <dc:description/>
  <dc:language>en-US</dc:language>
  <cp:lastModifiedBy>Sonia Donzé</cp:lastModifiedBy>
  <dcterms:modified xsi:type="dcterms:W3CDTF">2009-10-06T08:11:45Z</dcterms:modified>
  <cp:revision>3</cp:revision>
  <dc:subject/>
  <dc:title>Mikrozensus Aus- und Weiterbildung MZB 2011  Rahmenbedingungen (Termine/Kosten)</dc:title>
</cp:coreProperties>
</file>