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7B9-A139-4EB0-997C-66F39305D6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crorecensement Formation de base et formation continue MRF 2011 – Conditions-cadre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ichel Kol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777440" cy="25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icrorecensement Formation de base et formation continue </a:t>
            </a:r>
            <a:br>
              <a:rPr sz="4000"/>
            </a:b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RF 2011 </a:t>
            </a:r>
            <a:br>
              <a:rPr sz="4000"/>
            </a:b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onditions-cadre (calendrier/coûts)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1440" y="5733720"/>
            <a:ext cx="786456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'informa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'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chel Ko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4760" y="148428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784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1. Méthodologie et nouveautés du MRF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20720" y="2276640"/>
            <a:ext cx="698364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irage de l'échantillon dans le nouveau cadre de sondage SRP(H)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&gt; (Tirage de personnes; par ex. de 15 à 74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tact direct avec la personne à interroger via le ménage ti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tégration des caractères des registres dans l'enquête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&gt; (sexe, date de naissance, nationalité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ise en oeuvre complète des caractères-clés SHAPE (voir Programme de relevés du RF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886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2. Calendrier MRF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85080" y="4941720"/>
            <a:ext cx="1511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éc. 2012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emiers résult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284720" y="2857680"/>
            <a:ext cx="1928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Janv.-déc.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Enquête princip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884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4116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641988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81984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Connecteur droit avec flèche 26"/>
          <p:cNvCxnSpPr/>
          <p:nvPr/>
        </p:nvCxnSpPr>
        <p:spPr>
          <a:xfrm>
            <a:off x="856800" y="3714840"/>
            <a:ext cx="8001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Rectangle 31"/>
          <p:cNvSpPr/>
          <p:nvPr/>
        </p:nvSpPr>
        <p:spPr>
          <a:xfrm>
            <a:off x="4143240" y="3429000"/>
            <a:ext cx="2229120" cy="117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3000240" y="3429000"/>
            <a:ext cx="490680" cy="133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lèche vers le bas 33" descr=""/>
          <p:cNvPicPr/>
          <p:nvPr/>
        </p:nvPicPr>
        <p:blipFill>
          <a:blip r:embed="rId1"/>
          <a:stretch/>
        </p:blipFill>
        <p:spPr>
          <a:xfrm>
            <a:off x="2408400" y="3906720"/>
            <a:ext cx="29880" cy="536760"/>
          </a:xfrm>
          <a:prstGeom prst="rect">
            <a:avLst/>
          </a:prstGeom>
          <a:ln w="0">
            <a:noFill/>
          </a:ln>
        </p:spPr>
      </p:pic>
      <p:pic>
        <p:nvPicPr>
          <p:cNvPr id="101" name="Flèche vers le bas 35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55600" cy="104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8"/>
          <p:cNvSpPr/>
          <p:nvPr/>
        </p:nvSpPr>
        <p:spPr>
          <a:xfrm>
            <a:off x="2195640" y="4149720"/>
            <a:ext cx="280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CH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tri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ébut du travail à l'institut de son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ise à jour du question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daptation du questionnaire pour les interviews 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8572680" y="3571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6443640" y="4005360"/>
            <a:ext cx="17827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443640" y="4143240"/>
            <a:ext cx="1800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ès janv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Traitement des données (SD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xploitatio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lèche vers le bas 47"/>
          <p:cNvSpPr/>
          <p:nvPr/>
        </p:nvSpPr>
        <p:spPr>
          <a:xfrm>
            <a:off x="8245440" y="264312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lèche vers le bas 48" descr=""/>
          <p:cNvPicPr/>
          <p:nvPr/>
        </p:nvPicPr>
        <p:blipFill>
          <a:blip r:embed="rId3"/>
          <a:stretch/>
        </p:blipFill>
        <p:spPr>
          <a:xfrm>
            <a:off x="8332920" y="3760920"/>
            <a:ext cx="257040" cy="1042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524720" y="191628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ès déc. 2012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Livraison des données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(Densif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875120" y="3716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2844720" y="3716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lèche vers le bas 35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255600" cy="104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8"/>
          <p:cNvSpPr/>
          <p:nvPr/>
        </p:nvSpPr>
        <p:spPr>
          <a:xfrm>
            <a:off x="611280" y="5010120"/>
            <a:ext cx="1584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de-CH" sz="13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 trimestre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Apurement des questionnai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(Concept de détail MRF 201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989000"/>
            <a:ext cx="0" cy="1656000"/>
          </a:xfrm>
          <a:prstGeom prst="line">
            <a:avLst/>
          </a:prstGeom>
          <a:ln w="152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24000" y="2637000"/>
            <a:ext cx="20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oût/sept.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é-tes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Institut de son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27280" y="1700280"/>
            <a:ext cx="2089080" cy="576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31 ma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nnonce den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29840" y="1401840"/>
            <a:ext cx="7489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3. Conditions pour une dens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ode de densification: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répartition uniforme sur le territoire cant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aille max. de l'échantillon: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échantillon au niveau fédéral 10'000 personnes =&gt; densification possible jusqu'à 40’000 personnes pour la S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mmandes jusqu'au 31 mars 2010: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9 mois avant le début de l'enquête, selon art. 22 de l'ordonnance sur le recen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ûts par interview supplémentaire MRF 2011: CHF 71.-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TVA inc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46:12Z</dcterms:created>
  <dc:creator>Sonia Donzé</dc:creator>
  <dc:description/>
  <dc:language>en-US</dc:language>
  <cp:lastModifiedBy>Sonia Donzé</cp:lastModifiedBy>
  <cp:lastPrinted>2003-11-14T16:51:38Z</cp:lastPrinted>
  <dcterms:modified xsi:type="dcterms:W3CDTF">2009-10-06T07:57:05Z</dcterms:modified>
  <cp:revision>18</cp:revision>
  <dc:subject/>
  <dc:title>Microrecensement Formation de base et formation continue de 2011     </dc:title>
</cp:coreProperties>
</file>